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1.png" ContentType="image/png"/>
  <Override PartName="/ppt/media/image3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8E4B1-B50B-4DF9-8D16-B2189921B6D3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AF04C-B043-4831-915A-7AF24BF4AE60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816A8-23C4-4780-8605-2AB7C38BDF7E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************SOURCE: business analysts, business users****************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s you navigate the goal model, you see how higher-level business goals can be achieved by moving downwards. On the other hand, to see why a particular goal is needed, you just have to move upwards from that go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5B41B-7FD1-4A26-8AFE-A378779D674C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9A336-8912-4CEB-BE0B-8D04DBBC2F53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9B445-11ED-4E9A-BE0D-7E5CF342E4BE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Leaf-level goals – the actual work to be done in BPs – map into WS invoc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Higher-level goals are used to group lower-level ones and with the help of control flow annotations are used to generate the corresponding BPEL control flow constru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522B5-724C-476E-BD10-98075194693F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Leaf-level goals – the actual work to be done in BPs – map into WS invoc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Higher-level goals are used to group lower-level ones and with the help of control flow annotations are used to generate the corresponding BPEL control flow constru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56AF0-4639-4CD9-961B-E4A3E3CF819A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1819E-A68A-4BE6-8F43-CCCF50CE0C7D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2F441-FC4E-481C-A650-E34C9823A43E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539F9-7950-4F65-937D-366F454599C8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533AD-7079-4A00-B077-EBE1D33B6BF5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495C1-8475-4050-AF1B-F64AC667BF56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5F895-9629-4045-AB35-31429011A71C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A3C22-06FD-4B53-83D6-B1F14B543841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25C7D-F98F-4437-9E5C-350E636C3EA2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92D7C-FDEB-4C98-B76A-87B579812CFD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280D4-AF1E-429F-B38C-E2A4FA2436B7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roblems: it’s like if we just started writing code right away, without requirements or de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82B49-EFCC-4B9B-BAD4-DFE05297C1C8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AE77E-889E-451D-9C05-523CF3F5FA35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Note: this is an expanded version of the Supply Customer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********SOURCE: business analyst, requirements engineer, developers***********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Note: conditions are mostly informal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E436B-1A22-42D0-9433-F440FC383892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D3E5-2FEE-44F7-900D-2BA819FCA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CF56-8C11-4A6B-9D0C-48D79FF3D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1AFD9C-434A-4255-89A1-2AAC35FE5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1BBF48-6157-4622-8AC3-F7E0299B8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7BCF6F-F71D-41D7-BED7-A67762571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6B3809-EF29-4DB1-B834-976CD41B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18CEBF-49B0-4300-95F4-09924699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988909-44C7-4084-A999-041DF805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E2B805-8B40-4994-AC5E-11F6D17DF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0C0296-BDF0-41FF-BBAE-9A0044352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88D070-3A0A-4E4C-A547-DBF4EC9E9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760BB2-EAE4-4FA0-9DFF-F48441BD5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0F50-FC31-446C-8B29-9DB010617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42C389-F5C9-48C4-B369-4C6FA5EAE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FA1B2D-35F7-45BA-87A9-8D4CE0AAA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159ACA-4F5E-48AD-91F1-F1A7C0076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0D8EB0-4803-42FB-9AA3-9162C09B3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91EF6B-E3CD-4373-9BC0-538B4982E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B9DF72-1FF0-4986-85ED-2D7B2F09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4E70AB-8A15-476E-94CD-CF991C73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30AA1F-3B66-47B1-AE39-D2807C8C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28618C-14D1-4BBE-9D6F-B019F39C8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A03C1F-6C77-4A26-8EEA-C01AE9005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A81F-8647-4AE1-98C4-B942637AA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CDDC23-DDF0-4FB7-8CCB-8D96489F0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815885-7C3C-40D0-81BC-EE4B85C95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1E8D71-908F-407B-B7D0-465A95903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2B461C-597A-4AD6-9FEB-56F848FC3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D6F2E3-9F2D-4672-A35B-9827ADB17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D209AD-68A7-48FC-A8F0-7D1AD63F3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72AE79-71A2-415B-BD35-3967516FA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671289-B7F1-4AF7-A19C-89561E31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95AFC7-2C41-4BC3-8831-B4BE43D1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3C6114-A8D6-45EA-8343-72A1DC0E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BD460-3849-4F22-A24B-A0A7E28E9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98357B-DF6F-433A-A48E-483C1C013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C86E11-E1AB-4A40-82F3-2C062DD5A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393B34-95C2-4F9D-8671-68D0343F3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9EA57B-B2BE-4F32-8041-8521189F6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823E6F-1ECC-4859-BA5E-31460CA81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F015DB-CC74-421F-8C15-22D7E4579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01354F-F63C-4B28-957E-AFCB9842D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32FDC9-1963-4C5A-A2CB-4306D464A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8A5AB6-E0FA-45EC-82D7-F085FE140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581CEF-8B80-4A96-B63B-CB10AB32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F8C55-FCE6-4FAF-8F8E-44BF5DED3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CE93A3-2967-4386-9B88-E077106F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52C259-DFEF-4F72-9A2E-3220D8ED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837BD8-3036-4E63-83B7-0A3EA1580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4CE279-36FB-448C-9575-A835356AE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9CB38D-2D92-4758-8D51-FD020BEF3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AABBFF-6D0B-4D56-B7F9-021267E20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91DA90-4E01-4741-A582-D292BEC94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B121CB-E40A-4F20-BFA6-FFA645231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8DFCE2-1A06-454F-B556-EA6DA7C5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00EB5B-5251-414A-827C-C74A722A2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B8B39-D05F-4E3B-B677-48F26BA99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31BBEF-1C6B-488F-9FD4-767BB2771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89A042-B45D-4C2E-ADF3-918A39C4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D9AE11-E348-40E9-A4B4-BD7A541A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61F0E0-E96C-40D8-B5D6-31896860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3A8A61-62DF-4F13-9D76-75FA8D662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6281D1-64A5-465C-84C5-6A2BEA571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82967F-476A-4FB5-8CAD-17CF4EAE1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21D18-2715-4797-80BE-DF42A04F9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CFE35-5AFA-4F24-A094-07DA909C4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9D588-053E-4689-83C3-3B3106428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EBC39-5342-4340-880C-84132826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3619-FC0C-42B9-8857-DC224616D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3DDFD-C4AA-495D-B52A-B506EBAD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CC376-BCAB-4A89-AC7D-E61677C9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9A7A1-CFEF-4F5F-98C1-B6961AEA8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2DFEB-3E26-4CE0-961C-CD0C10B6D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F52CF-A34D-4705-8151-81B8AC9D1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03EA0-4BFB-4598-BC5C-F94929370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16F97-60E8-493F-A9C2-6ABD1B8C3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75786-7166-497D-AF91-F4072940D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35298-7ECE-4753-8737-8FA6975F7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7DC48-82B8-4DEA-A2FF-9BFDEA21A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F2CC-52B4-45E5-853B-4919E694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7B389-8917-4CD8-B4FC-4CE34DDC4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8567B-7284-408B-ABDD-3E3FE611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96A2A-DD5F-44D0-A708-B090C93C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04FF1-FEE9-4A81-97D6-417D2832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C14CF-BCBD-4808-93CA-2D4D3C367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525EB-F26D-41ED-AB95-F600B312C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69F3F-FC6B-444F-AE4E-292BA8EFD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B6A88-940D-4C21-BC02-529948AE2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DEF5F-8A40-4624-87F3-6059DFBFD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70945-8470-461A-A950-C1A96110E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4280-3D76-45EF-827F-954FA6473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29AF8-2100-44D1-B810-1D69F259B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E9E67-6DF2-4609-BC53-B7E3AF3BD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8CADB-7C80-4DC0-B269-7E775AC6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430E7-7414-492D-8F57-2B3ECE2D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14DE3-E030-4A49-9815-1A54AEA3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EB363-FEE6-4E3F-8DD0-835C1DA9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37690-ABB1-44B3-8B5D-FE72061BB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33034-EDCA-4EF2-B184-3B41297AF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16F4C-BA6A-40E4-BFF8-F3DF81E07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54A17-2E04-4DB5-ACA6-77DBB3FD8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B9E6-975F-48E9-A741-67394A16D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F01A7-9C4E-4158-AC35-B93771013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31EC5-8A26-4EC1-97C0-5E4C6EE8A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9B438-4264-47BF-8A98-C2AF66B9A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C4F0D-5D2B-4273-96D7-FCDE418AD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21590-48FA-4AE3-AE53-BE55AB3E6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2B29B-833F-4158-94E2-AF65D566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BCF11-A530-4FB0-B42F-9A2737B0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456D6-9AC8-4322-907A-6A58E98E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93DE3-9EBE-40D8-A770-265A6A5C8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2F9B0-8917-4120-80AF-BA619C484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B27E-5DCA-48FA-81DF-83AAB896C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9A90C-4493-4B23-B6D3-44F942D00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3D677-1AA2-41DA-AFB0-21BCB6D9B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E4078-C24F-4234-A289-E9FB0CF45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CECC4-DCAA-4FC0-8C07-FF15E9D4B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D4B37-CA8B-4EF2-94FA-3111E3D40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89E449-4015-4B67-A80E-DB7CEE1AA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85D82-DB3D-427F-9CC4-68705B87A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611C5-9835-4258-A3CD-0926A3FB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A1F6C-4591-43A2-BF60-5C819C75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F82A22-0169-4B6A-9ED6-52B33329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2F72-2DA6-4748-9057-68E4EDDE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0F977-E76A-4C4B-A1BC-56756DE9D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E3AEB6-1315-43F6-B2FD-830F78BCD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A77A7-793E-4A45-BEC9-2DBF6BB22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B2FDA-3039-4918-B549-59566F051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5C80A-BED2-4B2B-85A9-11A99B1A8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3902F-6A09-451F-B958-DE5D831F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62EFE4-6A7C-438C-A99C-C225F7AB0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996402-7964-4C8C-AA8A-6BD5E87B7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F9D44-9542-4B16-82DA-89145052B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2C005-FFB7-44A5-8209-DD29C417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634F-C57D-42CE-88A3-30FF6958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D2277C-4FFA-4130-84C3-2556FF6B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DD68F6-44F8-409C-803D-322EEC89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58D80B-23B5-403A-B92E-82C4903F2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38B7F-EB38-4CA1-8AEE-B0953A101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CF1BDE-E22E-4C50-8353-89B69CA39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286F65-4416-478A-87C8-F5B9698D7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137C65-D5DD-4CE5-BDD4-7E8615357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2709AF-5D50-4AD2-B9D6-240BC76D7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A7F199-C47E-4EE8-951A-517AD5459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97CEC5-77EA-4283-9A3D-B1F5245AB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E69C-4690-4555-92EB-6F3F0AA0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9C4F8B-AF37-4F86-A8DB-4F5E3E3A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A4752E-01CB-410A-AC80-1156D7CD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7A6B1-EDD9-4FBA-8F91-31EB93A4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371DBF-442F-41BA-B911-F98A92CA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FE182F-CE90-44B7-A3CC-12FDBF02B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F02C78-3AA2-44EA-926A-49E5E83A3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476AD7-3E2C-4BD6-A14F-8C31D379C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784F6E-9A80-4A65-9656-E7BC33DCB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EDEA47-D9B6-4EB2-AC2E-82BFB138F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AEBA27-EFAC-4A61-8CE8-667A803F9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RDBPM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29.10.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34C39-B760-4D23-BEA8-01E786AE416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40" descr="ut-logo"/>
          <p:cNvPicPr/>
          <p:nvPr/>
        </p:nvPicPr>
        <p:blipFill>
          <a:blip r:embed="rId2"/>
          <a:stretch/>
        </p:blipFill>
        <p:spPr>
          <a:xfrm>
            <a:off x="8128080" y="333360"/>
            <a:ext cx="907920" cy="895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421" name="Picture 40" descr="ut-logo"/>
          <p:cNvPicPr/>
          <p:nvPr/>
        </p:nvPicPr>
        <p:blipFill>
          <a:blip r:embed="rId2"/>
          <a:stretch/>
        </p:blipFill>
        <p:spPr>
          <a:xfrm>
            <a:off x="8128080" y="333360"/>
            <a:ext cx="907920" cy="89532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RDBPM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29.10.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BB258-FF6D-4A8D-8C5E-8EB20BA993A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464" name="Picture 40" descr="ut-logo"/>
          <p:cNvPicPr/>
          <p:nvPr/>
        </p:nvPicPr>
        <p:blipFill>
          <a:blip r:embed="rId2"/>
          <a:stretch/>
        </p:blipFill>
        <p:spPr>
          <a:xfrm>
            <a:off x="8128080" y="333360"/>
            <a:ext cx="907920" cy="89532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BPM 2007, Brisban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, Austral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6 September, 2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73179-8389-4F8C-A693-EF452D7C508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507" name="Picture 40" descr="ut-logo"/>
          <p:cNvPicPr/>
          <p:nvPr/>
        </p:nvPicPr>
        <p:blipFill>
          <a:blip r:embed="rId2"/>
          <a:stretch/>
        </p:blipFill>
        <p:spPr>
          <a:xfrm>
            <a:off x="8128080" y="333360"/>
            <a:ext cx="907920" cy="895320"/>
          </a:xfrm>
          <a:prstGeom prst="rect">
            <a:avLst/>
          </a:prstGeom>
          <a:ln w="0">
            <a:noFill/>
          </a:ln>
        </p:spPr>
      </p:pic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BPM 2007, Brisban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, Austral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6 September, 2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90F30-FF53-42E0-90CC-A35B6DD92DD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550" name="Picture 40" descr="ut-logo"/>
          <p:cNvPicPr/>
          <p:nvPr/>
        </p:nvPicPr>
        <p:blipFill>
          <a:blip r:embed="rId2"/>
          <a:stretch/>
        </p:blipFill>
        <p:spPr>
          <a:xfrm>
            <a:off x="8128080" y="333360"/>
            <a:ext cx="907920" cy="895320"/>
          </a:xfrm>
          <a:prstGeom prst="rect">
            <a:avLst/>
          </a:prstGeom>
          <a:ln w="0">
            <a:noFill/>
          </a:ln>
        </p:spPr>
      </p:pic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BPM 2007, Brisban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, Austral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6 September, 2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3300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A965A-D31D-4FCF-945A-4084F7F08F09}" type="slidenum">
              <a:rPr b="0" lang="en-US" sz="1600" spc="-1" strike="noStrike">
                <a:solidFill>
                  <a:srgbClr val="33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44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45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46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47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48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49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50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51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52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53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54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55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56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57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58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59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60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61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62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63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64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65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66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67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68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69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70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71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72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73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74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75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</p:grpSp>
      <p:sp>
        <p:nvSpPr>
          <p:cNvPr id="76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77" name="Picture 41" descr="ut-logo"/>
          <p:cNvPicPr/>
          <p:nvPr/>
        </p:nvPicPr>
        <p:blipFill>
          <a:blip r:embed="rId2"/>
          <a:stretch/>
        </p:blipFill>
        <p:spPr>
          <a:xfrm>
            <a:off x="7524720" y="1125360"/>
            <a:ext cx="1368360" cy="13496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RDBPM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29.10.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20" name="Picture 40" descr="ut-logo"/>
          <p:cNvPicPr/>
          <p:nvPr/>
        </p:nvPicPr>
        <p:blipFill>
          <a:blip r:embed="rId2"/>
          <a:stretch/>
        </p:blipFill>
        <p:spPr>
          <a:xfrm>
            <a:off x="8128080" y="333360"/>
            <a:ext cx="907920" cy="8953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RDBPM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29.10.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089D9-3EBC-4086-B65E-3D244C98B20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3" name="Picture 40" descr="ut-logo"/>
          <p:cNvPicPr/>
          <p:nvPr/>
        </p:nvPicPr>
        <p:blipFill>
          <a:blip r:embed="rId2"/>
          <a:stretch/>
        </p:blipFill>
        <p:spPr>
          <a:xfrm>
            <a:off x="8128080" y="333360"/>
            <a:ext cx="907920" cy="89532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RDBPM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29.10.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9E88A-1884-472A-B11B-A4035D1CC37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6" name="Picture 40" descr="ut-logo"/>
          <p:cNvPicPr/>
          <p:nvPr/>
        </p:nvPicPr>
        <p:blipFill>
          <a:blip r:embed="rId2"/>
          <a:stretch/>
        </p:blipFill>
        <p:spPr>
          <a:xfrm>
            <a:off x="8128080" y="333360"/>
            <a:ext cx="907920" cy="895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RDBPM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29.10.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B1185-F7B4-4C75-A27C-2D5558EBDDB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9" name="Picture 40" descr="ut-logo"/>
          <p:cNvPicPr/>
          <p:nvPr/>
        </p:nvPicPr>
        <p:blipFill>
          <a:blip r:embed="rId2"/>
          <a:stretch/>
        </p:blipFill>
        <p:spPr>
          <a:xfrm>
            <a:off x="8128080" y="333360"/>
            <a:ext cx="907920" cy="89532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RDBPM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29.10.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771C5-BE38-4C67-B1A3-CC447FD0385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92" name="Picture 40" descr="ut-logo"/>
          <p:cNvPicPr/>
          <p:nvPr/>
        </p:nvPicPr>
        <p:blipFill>
          <a:blip r:embed="rId2"/>
          <a:stretch/>
        </p:blipFill>
        <p:spPr>
          <a:xfrm>
            <a:off x="8128080" y="333360"/>
            <a:ext cx="907920" cy="89532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RDBPM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29.10.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96159-DE5A-4A7A-8B60-9E7FAE5DAD5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35" name="Picture 40" descr="ut-logo"/>
          <p:cNvPicPr/>
          <p:nvPr/>
        </p:nvPicPr>
        <p:blipFill>
          <a:blip r:embed="rId2"/>
          <a:stretch/>
        </p:blipFill>
        <p:spPr>
          <a:xfrm>
            <a:off x="8128080" y="333360"/>
            <a:ext cx="907920" cy="89532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RDBPM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29.10.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BBD2F-6D44-4BE4-9FB8-65318560F5B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78" name="Picture 40" descr="ut-logo"/>
          <p:cNvPicPr/>
          <p:nvPr/>
        </p:nvPicPr>
        <p:blipFill>
          <a:blip r:embed="rId2"/>
          <a:stretch/>
        </p:blipFill>
        <p:spPr>
          <a:xfrm>
            <a:off x="8128080" y="333360"/>
            <a:ext cx="907920" cy="89532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RDBPM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29.10.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B568C-312E-496D-AD57-1DA8361D32E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3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45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wmf"/><Relationship Id="rId13" Type="http://schemas.openxmlformats.org/officeDocument/2006/relationships/slideLayout" Target="../slideLayouts/slideLayout37.xml"/><Relationship Id="rId1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3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79280" y="466200"/>
            <a:ext cx="70567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0066"/>
                </a:solidFill>
                <a:latin typeface="Arial"/>
              </a:rPr>
              <a:t>Requirements-Driven Design and Configuration Management of BPs</a:t>
            </a:r>
            <a:r>
              <a:rPr b="1" lang="en-CA" sz="48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611280" y="3049200"/>
            <a:ext cx="6486480" cy="27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lexei Lapouchn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(with Yijun Yu, John Mylopoul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7e9ce8"/>
                </a:solidFill>
                <a:latin typeface="Arial"/>
              </a:rPr>
              <a:t>Department of Computer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7e9ce8"/>
                </a:solidFill>
                <a:latin typeface="Arial"/>
              </a:rPr>
              <a:t>University of Toronto, Ca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0F4ED-30CB-455E-8532-258D30BEE17A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Variation Poi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3" name="Rectangle 3"/>
          <p:cNvSpPr/>
          <p:nvPr/>
        </p:nvSpPr>
        <p:spPr>
          <a:xfrm>
            <a:off x="0" y="21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664" name="Object 4"/>
          <p:cNvGraphicFramePr/>
          <p:nvPr/>
        </p:nvGraphicFramePr>
        <p:xfrm>
          <a:off x="1474920" y="1484280"/>
          <a:ext cx="6553080" cy="472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4920" y="1484280"/>
                    <a:ext cx="6553080" cy="472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6" name="Oval 9"/>
          <p:cNvSpPr/>
          <p:nvPr/>
        </p:nvSpPr>
        <p:spPr>
          <a:xfrm>
            <a:off x="1467000" y="2349360"/>
            <a:ext cx="1800000" cy="1123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7" name="Oval 10"/>
          <p:cNvSpPr/>
          <p:nvPr/>
        </p:nvSpPr>
        <p:spPr>
          <a:xfrm>
            <a:off x="2006640" y="4464000"/>
            <a:ext cx="1800360" cy="1123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8" name="Oval 11"/>
          <p:cNvSpPr/>
          <p:nvPr/>
        </p:nvSpPr>
        <p:spPr>
          <a:xfrm>
            <a:off x="6146640" y="3429000"/>
            <a:ext cx="1800360" cy="1123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AF7F7-8984-4CFE-B914-67027983BAB8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Configuration Option 1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2" name="Rectangle 5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673" name="Object 4"/>
          <p:cNvGraphicFramePr/>
          <p:nvPr/>
        </p:nvGraphicFramePr>
        <p:xfrm>
          <a:off x="1871640" y="1449360"/>
          <a:ext cx="5310360" cy="471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1640" y="1449360"/>
                    <a:ext cx="5310360" cy="47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BA121-DE0B-4A61-96C2-FFAB33E7BE3E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Configuration Option 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8" name="Rectangle 5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679" name="Object 4"/>
          <p:cNvGraphicFramePr/>
          <p:nvPr/>
        </p:nvGraphicFramePr>
        <p:xfrm>
          <a:off x="1816200" y="1449360"/>
          <a:ext cx="5497560" cy="471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6200" y="1449360"/>
                    <a:ext cx="5497560" cy="471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B695E-F704-431B-AF8B-DBD846A53925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Generating Executable BP Specifica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7715160" cy="170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Generate WS-BPEL processes from goal mode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Semi-automat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Structurally similar to the source goal mod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7e9ce8"/>
                </a:solidFill>
                <a:latin typeface="Arial"/>
              </a:rPr>
              <a:t>Variability preserv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5" name="Object 4"/>
          <p:cNvGraphicFramePr/>
          <p:nvPr/>
        </p:nvGraphicFramePr>
        <p:xfrm>
          <a:off x="1465200" y="3608280"/>
          <a:ext cx="6077160" cy="259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5200" y="3608280"/>
                    <a:ext cx="6077160" cy="25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7" name="Object 7"/>
          <p:cNvGraphicFramePr/>
          <p:nvPr/>
        </p:nvGraphicFramePr>
        <p:xfrm>
          <a:off x="1467000" y="3608280"/>
          <a:ext cx="6076800" cy="259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67000" y="3608280"/>
                    <a:ext cx="6076800" cy="25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A6538-968B-4DDA-B245-EB02735512CB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Generating Executable BP Specifica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771516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Mapping Ru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Leaf-level goals </a:t>
            </a:r>
            <a:r>
              <a:rPr b="0" lang="en-CA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 WS Invocations (or BPEL process invocation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Higher-level goals </a:t>
            </a:r>
            <a:r>
              <a:rPr b="0" lang="en-CA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 No explicitly mapped. Help in generation of BPEL control flow constru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Conditions/Loops </a:t>
            </a:r>
            <a:r>
              <a:rPr b="0" lang="en-CA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 BPEL conditions, loo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Event-driven OR </a:t>
            </a:r>
            <a:r>
              <a:rPr b="0" lang="en-CA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pick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 w/ multiple </a:t>
            </a: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onMessage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 constru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Softgoals </a:t>
            </a:r>
            <a:r>
              <a:rPr b="0" lang="en-CA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 not mapp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Appropriate </a:t>
            </a: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portTypes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, messages (if I/O is specified), etc. are genera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2FFC7-7E6A-43FE-A476-341FECBA3AB1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Mapping Variation Poi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Arial"/>
              </a:rPr>
              <a:t>They are a tool to configure executable (and, possibly, deployed) B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Arial"/>
              </a:rPr>
              <a:t>Mapping to WS-BP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Generate 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(or 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f-elseif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for BPEL 2.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branch corresponds to an altern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Branch condition (XPath) checks if it is the current choice for the variation poi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Activities in each branch are automatically generated based on the particular alternative in the goal mod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000000"/>
                </a:solidFill>
                <a:uFillTx/>
                <a:latin typeface="Arial"/>
              </a:rPr>
              <a:t>All choices are to be implement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PEL process skeleton is generated. It needs to be complete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Arial"/>
              </a:rPr>
              <a:t>The result: </a:t>
            </a:r>
            <a:r>
              <a:rPr b="0" lang="en-CA" sz="2100" spc="-1" strike="noStrike">
                <a:solidFill>
                  <a:srgbClr val="0070c0"/>
                </a:solidFill>
                <a:latin typeface="Arial"/>
              </a:rPr>
              <a:t>High-Variability Executable Model (HVEM)</a:t>
            </a:r>
            <a:r>
              <a:rPr b="0" lang="en-CA" sz="2100" spc="-1" strike="noStrike">
                <a:solidFill>
                  <a:srgbClr val="000000"/>
                </a:solidFill>
                <a:latin typeface="Arial"/>
              </a:rPr>
              <a:t> of the business proces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8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C733C-0CB9-49CA-9B39-36A8B666CFD3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Configuring HVEMs at Runtim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300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Prototype infra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GUI for preference inp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Configurator W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Arial"/>
              </a:rPr>
              <a:t>Can come up with goal model config based on pref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Arial"/>
              </a:rPr>
              <a:t>Can provide the configuration to deployed B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XML Representation for BP configu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1" name="Object 4"/>
          <p:cNvGraphicFramePr/>
          <p:nvPr/>
        </p:nvGraphicFramePr>
        <p:xfrm>
          <a:off x="2637000" y="4681440"/>
          <a:ext cx="4005000" cy="15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37000" y="4681440"/>
                    <a:ext cx="4005000" cy="15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3" name="Object 6"/>
          <p:cNvGraphicFramePr/>
          <p:nvPr/>
        </p:nvGraphicFramePr>
        <p:xfrm>
          <a:off x="5202360" y="1673280"/>
          <a:ext cx="3195360" cy="1698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02360" y="1673280"/>
                    <a:ext cx="3195360" cy="16984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81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BPM 2007, Brisbane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, Australia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6 September, 2007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D63CA-B5E9-49C4-9036-4B0F7685064B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7" name="AutoShape 2"/>
          <p:cNvSpPr/>
          <p:nvPr/>
        </p:nvSpPr>
        <p:spPr>
          <a:xfrm flipV="1" rot="6743400">
            <a:off x="-78480" y="3025440"/>
            <a:ext cx="1655640" cy="733680"/>
          </a:xfrm>
          <a:custGeom>
            <a:avLst/>
            <a:gdLst>
              <a:gd name="textAreaLeft" fmla="*/ 289800 w 1655640"/>
              <a:gd name="textAreaRight" fmla="*/ 1200600 w 165564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7e9ce8"/>
          </a:solidFill>
          <a:ln w="9360">
            <a:solidFill>
              <a:srgbClr val="0000ff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8" name="Rectangle 3"/>
          <p:cNvSpPr/>
          <p:nvPr/>
        </p:nvSpPr>
        <p:spPr>
          <a:xfrm>
            <a:off x="0" y="20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709" name="Object 4"/>
          <p:cNvGraphicFramePr/>
          <p:nvPr/>
        </p:nvGraphicFramePr>
        <p:xfrm>
          <a:off x="34920" y="3911760"/>
          <a:ext cx="4897440" cy="22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3911760"/>
                    <a:ext cx="4897440" cy="22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1" name="Object 5"/>
          <p:cNvGraphicFramePr/>
          <p:nvPr/>
        </p:nvGraphicFramePr>
        <p:xfrm>
          <a:off x="1258920" y="2205000"/>
          <a:ext cx="2952720" cy="156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2205000"/>
                    <a:ext cx="2952720" cy="15652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81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713" name="AutoShape 6"/>
          <p:cNvSpPr/>
          <p:nvPr/>
        </p:nvSpPr>
        <p:spPr>
          <a:xfrm rot="3775200">
            <a:off x="2237760" y="1297080"/>
            <a:ext cx="1657080" cy="733320"/>
          </a:xfrm>
          <a:custGeom>
            <a:avLst/>
            <a:gdLst>
              <a:gd name="textAreaLeft" fmla="*/ 289800 w 1657080"/>
              <a:gd name="textAreaRight" fmla="*/ 1201320 w 16570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7e9ce8"/>
          </a:solidFill>
          <a:ln w="9360">
            <a:solidFill>
              <a:srgbClr val="0000ff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714" name="Object 7"/>
          <p:cNvGraphicFramePr/>
          <p:nvPr/>
        </p:nvGraphicFramePr>
        <p:xfrm>
          <a:off x="34920" y="44280"/>
          <a:ext cx="2592360" cy="1882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15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920" y="44280"/>
                    <a:ext cx="2592360" cy="18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6" name="Rectangle 8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7" name="Rectangle 9"/>
          <p:cNvSpPr/>
          <p:nvPr/>
        </p:nvSpPr>
        <p:spPr>
          <a:xfrm>
            <a:off x="7416720" y="0"/>
            <a:ext cx="1656000" cy="170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8" name="Oval 10"/>
          <p:cNvSpPr/>
          <p:nvPr/>
        </p:nvSpPr>
        <p:spPr>
          <a:xfrm>
            <a:off x="2394000" y="125280"/>
            <a:ext cx="647640" cy="64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9" name="Oval 11"/>
          <p:cNvSpPr/>
          <p:nvPr/>
        </p:nvSpPr>
        <p:spPr>
          <a:xfrm>
            <a:off x="728640" y="2286000"/>
            <a:ext cx="647640" cy="647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0" name="Oval 12"/>
          <p:cNvSpPr/>
          <p:nvPr/>
        </p:nvSpPr>
        <p:spPr>
          <a:xfrm>
            <a:off x="3762360" y="4402080"/>
            <a:ext cx="647640" cy="647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721" name="Object 13"/>
          <p:cNvGraphicFramePr/>
          <p:nvPr/>
        </p:nvGraphicFramePr>
        <p:xfrm>
          <a:off x="6019920" y="4689360"/>
          <a:ext cx="2557440" cy="982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22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19920" y="4689360"/>
                    <a:ext cx="2557440" cy="9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3" name="Oval 14"/>
          <p:cNvSpPr/>
          <p:nvPr/>
        </p:nvSpPr>
        <p:spPr>
          <a:xfrm>
            <a:off x="5516640" y="4832280"/>
            <a:ext cx="647640" cy="647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4" name="Oval 15"/>
          <p:cNvSpPr/>
          <p:nvPr/>
        </p:nvSpPr>
        <p:spPr>
          <a:xfrm>
            <a:off x="3699000" y="2286000"/>
            <a:ext cx="647640" cy="647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5" name="AutoShape 16"/>
          <p:cNvSpPr/>
          <p:nvPr/>
        </p:nvSpPr>
        <p:spPr>
          <a:xfrm>
            <a:off x="3141720" y="3033720"/>
            <a:ext cx="934920" cy="216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6" name="Rectangle 17"/>
          <p:cNvSpPr/>
          <p:nvPr/>
        </p:nvSpPr>
        <p:spPr>
          <a:xfrm>
            <a:off x="6058080" y="5678640"/>
            <a:ext cx="2439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 deployed generic process gets the appropriate configuration.</a:t>
            </a:r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7" name="Rectangle 18"/>
          <p:cNvSpPr/>
          <p:nvPr/>
        </p:nvSpPr>
        <p:spPr>
          <a:xfrm>
            <a:off x="3492360" y="6219720"/>
            <a:ext cx="2205000" cy="42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8" name="Rectangle 19"/>
          <p:cNvSpPr/>
          <p:nvPr/>
        </p:nvSpPr>
        <p:spPr>
          <a:xfrm>
            <a:off x="1150920" y="6199200"/>
            <a:ext cx="29257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Given high-level preferences, the appropriate configuration is selected</a:t>
            </a:r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729" name="Object 20"/>
          <p:cNvGraphicFramePr/>
          <p:nvPr/>
        </p:nvGraphicFramePr>
        <p:xfrm>
          <a:off x="4527720" y="68400"/>
          <a:ext cx="3958920" cy="1695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30" name="Object 2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27720" y="68400"/>
                    <a:ext cx="3958920" cy="16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1" name="Rectangle 21"/>
          <p:cNvSpPr/>
          <p:nvPr/>
        </p:nvSpPr>
        <p:spPr>
          <a:xfrm>
            <a:off x="4842000" y="1865160"/>
            <a:ext cx="4216320" cy="260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5746680" y="1943280"/>
            <a:ext cx="2440080" cy="404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Arial"/>
              </a:rPr>
              <a:t>BP Configuration</a:t>
            </a:r>
            <a:endParaRPr b="1" lang="en-US" sz="21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733" name="Object 23"/>
          <p:cNvGraphicFramePr/>
          <p:nvPr/>
        </p:nvGraphicFramePr>
        <p:xfrm>
          <a:off x="4915080" y="2413080"/>
          <a:ext cx="4071600" cy="2028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34" name="Object 2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915080" y="2413080"/>
                    <a:ext cx="4071600" cy="20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5" name="Oval 24"/>
          <p:cNvSpPr/>
          <p:nvPr/>
        </p:nvSpPr>
        <p:spPr>
          <a:xfrm>
            <a:off x="4076640" y="125280"/>
            <a:ext cx="647640" cy="64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0A645-3CC8-4BEC-A0D8-940479650F33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Discuss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Model BPs at high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Explicit representation of quality attributes (softgoal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Analysis of alternatives w.r.t. softgo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Traceability to requir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BP configuration at high-level, in user-oriented te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High-level visualization of BPs using goal models is poss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Drawbac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Explicit representation of BP alternat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Talk Overvie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Requirements-driven configuration of B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0000"/>
                </a:solidFill>
                <a:latin typeface="Arial"/>
              </a:rPr>
              <a:t>Using contexts to capture domain variability and its effects on BP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Towards adaptive B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3C01A-7CE9-48D5-8164-56FF9851E987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F4D6E-7A6E-4EA7-9023-5211D4F9157E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Our Aim (1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6320"/>
            <a:ext cx="822960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evelop a method for </a:t>
            </a:r>
            <a:r>
              <a:rPr b="0" lang="en-CA" sz="2800" spc="-1" strike="noStrike">
                <a:solidFill>
                  <a:srgbClr val="7e9ce8"/>
                </a:solidFill>
                <a:latin typeface="Arial"/>
              </a:rPr>
              <a:t>requirements-driven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specification and configuration of business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t design ti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bility to explicitly specify, refine and analyze </a:t>
            </a:r>
            <a:r>
              <a:rPr b="0" lang="en-CA" sz="2400" spc="-1" strike="noStrike">
                <a:solidFill>
                  <a:srgbClr val="7e9ce8"/>
                </a:solidFill>
                <a:latin typeface="Arial"/>
              </a:rPr>
              <a:t>goals of business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bility to model </a:t>
            </a:r>
            <a:r>
              <a:rPr b="0" lang="en-CA" sz="2400" spc="-1" strike="noStrike">
                <a:solidFill>
                  <a:srgbClr val="7e9ce8"/>
                </a:solidFill>
                <a:latin typeface="Arial"/>
              </a:rPr>
              <a:t>quality constraints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lated to 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bility to capture </a:t>
            </a:r>
            <a:r>
              <a:rPr b="0" lang="en-CA" sz="2400" spc="-1" strike="noStrike">
                <a:solidFill>
                  <a:srgbClr val="7e9ce8"/>
                </a:solidFill>
                <a:latin typeface="Arial"/>
              </a:rPr>
              <a:t>alternative way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of achieving the goals of BPs and to model their </a:t>
            </a:r>
            <a:r>
              <a:rPr b="0" lang="en-CA" sz="2400" spc="-1" strike="noStrike">
                <a:solidFill>
                  <a:srgbClr val="7e9ce8"/>
                </a:solidFill>
                <a:latin typeface="Arial"/>
              </a:rPr>
              <a:t>effect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on quality constraints – </a:t>
            </a:r>
            <a:r>
              <a:rPr b="0" lang="en-CA" sz="2400" spc="-1" strike="noStrike">
                <a:solidFill>
                  <a:srgbClr val="0070c0"/>
                </a:solidFill>
                <a:latin typeface="Arial"/>
              </a:rPr>
              <a:t>high-variability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Generation of high-variability executable BPs based on goal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Beyond Intentional Variabilit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457200" y="1719000"/>
            <a:ext cx="8229600" cy="15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Intentional variability cannot capture all the details needed for flexible, adaptable systems. Too high-leve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104BB-35F1-4591-B71F-DAEDA90479E8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8" name="Content Placeholder 2"/>
          <p:cNvSpPr/>
          <p:nvPr/>
        </p:nvSpPr>
        <p:spPr>
          <a:xfrm>
            <a:off x="609480" y="3384720"/>
            <a:ext cx="471816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How can we model the fact that automatic approval for large orders is </a:t>
            </a:r>
            <a:r>
              <a:rPr b="0" lang="en-CA" sz="3000" spc="-1" strike="noStrike">
                <a:solidFill>
                  <a:srgbClr val="ff0000"/>
                </a:solidFill>
                <a:latin typeface="Arial"/>
              </a:rPr>
              <a:t>very risky</a:t>
            </a: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, while for others, its just risky?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749" name="Object 5"/>
          <p:cNvGraphicFramePr/>
          <p:nvPr/>
        </p:nvGraphicFramePr>
        <p:xfrm>
          <a:off x="5094360" y="2859120"/>
          <a:ext cx="4011480" cy="274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4360" y="2859120"/>
                    <a:ext cx="4011480" cy="27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Taking the environment into consider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438120" y="1695240"/>
            <a:ext cx="8229600" cy="44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Environment (domain) characteristics and their dynamics affect the requirements and must be taken into consideration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! </a:t>
            </a:r>
            <a:r>
              <a:rPr b="0" lang="en-CA" sz="2400" spc="-1" strike="noStrike">
                <a:solidFill>
                  <a:srgbClr val="ff0000"/>
                </a:solidFill>
                <a:latin typeface="Arial"/>
              </a:rPr>
              <a:t>We take the intentional view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omain characteristics influence the requirements and the behaviour of the system. In particular, they c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ffect the </a:t>
            </a:r>
            <a:r>
              <a:rPr b="0" lang="en-CA" sz="2400" spc="-1" strike="noStrike">
                <a:solidFill>
                  <a:srgbClr val="0070c0"/>
                </a:solidFill>
                <a:latin typeface="Arial"/>
              </a:rPr>
              <a:t>requirements themselve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: what is required of the system, i.e., system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ffect/constrain </a:t>
            </a:r>
            <a:r>
              <a:rPr b="0" lang="en-CA" sz="2400" spc="-1" strike="noStrike">
                <a:solidFill>
                  <a:srgbClr val="0070c0"/>
                </a:solidFill>
                <a:latin typeface="Arial"/>
              </a:rPr>
              <a:t>goal refinement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, e.g., change the available alternatives to achieve system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0" lang="en-CA" sz="2400" spc="-1" strike="noStrike">
                <a:solidFill>
                  <a:srgbClr val="0070c0"/>
                </a:solidFill>
                <a:latin typeface="Arial"/>
              </a:rPr>
              <a:t>how alternatives are evaluated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.r.t. soft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0" lang="en-CA" sz="2400" spc="-1" strike="noStrike">
                <a:solidFill>
                  <a:srgbClr val="0070c0"/>
                </a:solidFill>
                <a:latin typeface="Arial"/>
              </a:rPr>
              <a:t>prioritie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over quality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5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EC178-A8DC-4185-A2CE-144D16C093B4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77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Our view of contex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482760" y="98424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perties of the environment that affect requirements are captured using </a:t>
            </a:r>
            <a:r>
              <a:rPr b="0" i="1" lang="en-CA" sz="2800" spc="-1" strike="noStrike">
                <a:solidFill>
                  <a:srgbClr val="ff0000"/>
                </a:solidFill>
                <a:latin typeface="Arial"/>
              </a:rPr>
              <a:t>context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asic definition of a contex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3301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70c0"/>
                </a:solidFill>
                <a:latin typeface="Arial"/>
              </a:rPr>
              <a:t>Abstraction over domain assumptions and/or propertie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3301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ny things can be considered to be parts of a contex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06240" indent="-32580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Hardware/software 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06240" indent="-32580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PU/bandwidth utilization, current system load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06240" indent="-32580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History of user inter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06240" indent="-32580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History of attempted adap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06240" indent="-32580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urrent and recent system/process metric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06240" indent="-32580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06240" indent="-32580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5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A8F1A-0F2F-4E6C-938C-9670AAFEFD60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4959360" cy="99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Capturing contex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457200" y="1339920"/>
            <a:ext cx="8229600" cy="47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Dom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70c0"/>
                </a:solidFill>
                <a:latin typeface="Arial"/>
              </a:rPr>
              <a:t>Context Ent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Arial"/>
              </a:rPr>
              <a:t>Things that the process works on (documents/data, supplies, etc.) or with (users, business partners, legacy system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Arial"/>
              </a:rPr>
              <a:t>Influence the process (management, owners, government regulator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Arial"/>
              </a:rPr>
              <a:t>Other things (date, time, weather conditions, etc.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Context entities have </a:t>
            </a:r>
            <a:r>
              <a:rPr b="0" lang="en-CA" sz="2600" spc="-1" strike="noStrike">
                <a:solidFill>
                  <a:srgbClr val="0070c0"/>
                </a:solidFill>
                <a:latin typeface="Arial"/>
              </a:rPr>
              <a:t>context dimen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Arial"/>
              </a:rPr>
              <a:t>Properties that affect the requirements (e.g., size, location, importance, utilization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59D8B-B009-4DD7-BF51-3D85B4571255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763" name="Object 6"/>
          <p:cNvGraphicFramePr/>
          <p:nvPr/>
        </p:nvGraphicFramePr>
        <p:xfrm>
          <a:off x="1238400" y="2717640"/>
          <a:ext cx="6746760" cy="214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8400" y="2717640"/>
                    <a:ext cx="6746760" cy="21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99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Context refinement hierarchi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457200" y="1294920"/>
            <a:ext cx="8229600" cy="28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Contexts can be arranged in hierarch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Structure the dom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Simplify the modeling of the effects that contexts have on the mod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Leaf-level contexts are </a:t>
            </a:r>
            <a:r>
              <a:rPr b="0" i="1" lang="en-CA" sz="2600" spc="-1" strike="noStrike">
                <a:solidFill>
                  <a:srgbClr val="0070c0"/>
                </a:solidFill>
                <a:latin typeface="Arial"/>
              </a:rPr>
              <a:t>defined</a:t>
            </a:r>
            <a:r>
              <a:rPr b="0" lang="en-CA" sz="26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to determine when they are </a:t>
            </a:r>
            <a:r>
              <a:rPr b="0" i="1" lang="en-CA" sz="2600" spc="-1" strike="noStrike">
                <a:solidFill>
                  <a:srgbClr val="000000"/>
                </a:solidFill>
                <a:latin typeface="Arial"/>
              </a:rPr>
              <a:t>active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FA399-FFF9-4FF5-82E4-509D8C974B64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769" name="Object 3"/>
          <p:cNvGraphicFramePr/>
          <p:nvPr/>
        </p:nvGraphicFramePr>
        <p:xfrm>
          <a:off x="1504800" y="4095720"/>
          <a:ext cx="6070680" cy="21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4800" y="4095720"/>
                    <a:ext cx="607068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17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Adding contexts to goal model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EASS 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October 28, 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4DFA5-FFE1-4B7D-ADC0-7451C1D85326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774" name="Object 6"/>
          <p:cNvGraphicFramePr/>
          <p:nvPr/>
        </p:nvGraphicFramePr>
        <p:xfrm>
          <a:off x="184320" y="1251000"/>
          <a:ext cx="8877240" cy="168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320" y="1251000"/>
                    <a:ext cx="8877240" cy="16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6" name="Object 8"/>
          <p:cNvGraphicFramePr/>
          <p:nvPr/>
        </p:nvGraphicFramePr>
        <p:xfrm>
          <a:off x="482760" y="3138480"/>
          <a:ext cx="7704000" cy="357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7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2760" y="3138480"/>
                    <a:ext cx="7704000" cy="35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2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More Examples of Contex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694D6-81F8-4686-B676-B74CE5E73491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781" name="Object 3"/>
          <p:cNvGraphicFramePr/>
          <p:nvPr/>
        </p:nvGraphicFramePr>
        <p:xfrm>
          <a:off x="328680" y="1117440"/>
          <a:ext cx="5289480" cy="515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8680" y="1117440"/>
                    <a:ext cx="5289480" cy="5156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83" name="Object 5"/>
          <p:cNvGraphicFramePr/>
          <p:nvPr/>
        </p:nvGraphicFramePr>
        <p:xfrm>
          <a:off x="5796000" y="2685960"/>
          <a:ext cx="3043080" cy="256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6000" y="2685960"/>
                    <a:ext cx="3043080" cy="2565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Using contex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Several ways context can be use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70c0"/>
                </a:solidFill>
                <a:latin typeface="Arial"/>
              </a:rPr>
              <a:t>Process instance configuration 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to suit the current context. E.g. (the BP example), look at current date/time, order/customer properties, product characteristics, shipping destination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Dynamic environment results in dynamic context. Thus, context can be monitored and </a:t>
            </a:r>
            <a:r>
              <a:rPr b="0" lang="en-CA" sz="2600" spc="-1" strike="noStrike">
                <a:solidFill>
                  <a:srgbClr val="0070c0"/>
                </a:solidFill>
                <a:latin typeface="Arial"/>
              </a:rPr>
              <a:t>process instances can be adapted to changing contexts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0951-54FF-41DB-8A4F-9CB97A547C8D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Supporting Dynamic Contex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daptive systems change in dynamic environments – i.e., </a:t>
            </a:r>
            <a:r>
              <a:rPr b="0" lang="en-CA" sz="2800" spc="-1" strike="noStrike">
                <a:solidFill>
                  <a:srgbClr val="0070c0"/>
                </a:solidFill>
                <a:latin typeface="Arial"/>
              </a:rPr>
              <a:t>when context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ed to understand which contexts are static and which are dynamic within a process in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ometimes it’s not clear. E.g., customer risk in the presence of multiple process insta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hange in context entity indicates change in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text monitoring using context defin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9F3F7-236C-4B75-855F-666E8D8E82B6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Talk Overvie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Requirements-driven configuration of B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Using contexts to capture domain variability and its effects on BP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0000"/>
                </a:solidFill>
                <a:latin typeface="Arial"/>
              </a:rPr>
              <a:t>Towards adaptive B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8D55D-493E-4D5C-A45F-C4D3E62CB037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54ACA-76B9-40A5-BC1D-B825CAA41337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Our Aim (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Fine-grained modeling of BPs based on varying </a:t>
            </a:r>
            <a:r>
              <a:rPr b="0" lang="en-CA" sz="2500" spc="-1" strike="noStrike">
                <a:solidFill>
                  <a:srgbClr val="0070c0"/>
                </a:solidFill>
                <a:latin typeface="Arial"/>
              </a:rPr>
              <a:t>environment characteristic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t runti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raceability to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onfiguration of BPs based on current business pri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Arial"/>
              </a:rPr>
              <a:t>Specified at high level in user-oriented te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Arial"/>
              </a:rPr>
              <a:t>Support for BP adaptation based on dynamically changing domain propert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Arial"/>
              </a:rPr>
              <a:t>BP adaptation based on BAM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CAE92-6420-4D8A-AB09-43E01F008B67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BP Reconfiguration/Adapt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6840" y="1473120"/>
            <a:ext cx="4970520" cy="465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669999"/>
                </a:solidFill>
                <a:latin typeface="Arial"/>
              </a:rPr>
              <a:t>Adaptation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is done through </a:t>
            </a:r>
            <a:r>
              <a:rPr b="0" lang="en-CA" sz="2600" spc="-1" strike="noStrike">
                <a:solidFill>
                  <a:srgbClr val="7e9ce8"/>
                </a:solidFill>
                <a:latin typeface="Arial"/>
              </a:rPr>
              <a:t>BP reconfiguration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CA" sz="2600" spc="-1" strike="noStrike" u="sng">
                <a:solidFill>
                  <a:srgbClr val="000000"/>
                </a:solidFill>
                <a:uFillTx/>
                <a:latin typeface="Arial"/>
              </a:rPr>
              <a:t>switching to a better alternative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ff0000"/>
                </a:solidFill>
                <a:latin typeface="Arial"/>
              </a:rPr>
              <a:t>Anticipated adapt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Analysis and reconfiguration is done at </a:t>
            </a:r>
            <a:r>
              <a:rPr b="0" lang="en-CA" sz="2600" spc="-1" strike="noStrike">
                <a:solidFill>
                  <a:srgbClr val="7e9ce8"/>
                </a:solidFill>
                <a:latin typeface="Arial"/>
              </a:rPr>
              <a:t>high level in terms of goal model alternatives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Causes for reconfigurati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200" spc="-1" strike="noStrike">
                <a:solidFill>
                  <a:srgbClr val="000000"/>
                </a:solidFill>
                <a:latin typeface="Arial"/>
              </a:rPr>
              <a:t>Change in requirements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 (e.g., business user prioriti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200" spc="-1" strike="noStrike">
                <a:solidFill>
                  <a:srgbClr val="000000"/>
                </a:solidFill>
                <a:latin typeface="Arial"/>
              </a:rPr>
              <a:t>As a response to BP monito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200" spc="-1" strike="noStrike">
                <a:solidFill>
                  <a:srgbClr val="ff0000"/>
                </a:solidFill>
                <a:latin typeface="Arial"/>
              </a:rPr>
              <a:t>Changing environment (contex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1" name="Object 2"/>
          <p:cNvGraphicFramePr/>
          <p:nvPr/>
        </p:nvGraphicFramePr>
        <p:xfrm>
          <a:off x="5576760" y="2303640"/>
          <a:ext cx="3451320" cy="282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6760" y="2303640"/>
                    <a:ext cx="3451320" cy="28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1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Adaptive BP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457200" y="1250640"/>
            <a:ext cx="822960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ust have measurable metr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Lead/lag 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From qualitative to quantitative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Operationalization of softgo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Mapping to metrics/KP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oftgoal desired satisfaction levels =&gt; target values or r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an be done in the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ometimes needs to be exposed – e.g., customer satisf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Quantit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Qualitative is still useful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EF32-D5B2-40F3-B63B-9CEFF7C44EF3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25051-5D02-4233-BB0B-81CB1F12F710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8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BP Reconfigur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810" name="Object 2"/>
          <p:cNvGraphicFramePr/>
          <p:nvPr/>
        </p:nvGraphicFramePr>
        <p:xfrm>
          <a:off x="171360" y="1019160"/>
          <a:ext cx="7918560" cy="524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1019160"/>
                    <a:ext cx="7918560" cy="52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2" name="Oval 10"/>
          <p:cNvSpPr/>
          <p:nvPr/>
        </p:nvSpPr>
        <p:spPr>
          <a:xfrm>
            <a:off x="1727280" y="1673280"/>
            <a:ext cx="495360" cy="495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3" name="Oval 11"/>
          <p:cNvSpPr/>
          <p:nvPr/>
        </p:nvSpPr>
        <p:spPr>
          <a:xfrm>
            <a:off x="3490920" y="2006640"/>
            <a:ext cx="495360" cy="495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4" name="Oval 12"/>
          <p:cNvSpPr/>
          <p:nvPr/>
        </p:nvSpPr>
        <p:spPr>
          <a:xfrm>
            <a:off x="7365960" y="2006640"/>
            <a:ext cx="495360" cy="495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5" name="Oval 13"/>
          <p:cNvSpPr/>
          <p:nvPr/>
        </p:nvSpPr>
        <p:spPr>
          <a:xfrm>
            <a:off x="5543640" y="2451240"/>
            <a:ext cx="495360" cy="495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6" name="Oval 14"/>
          <p:cNvSpPr/>
          <p:nvPr/>
        </p:nvSpPr>
        <p:spPr>
          <a:xfrm>
            <a:off x="5587920" y="3294000"/>
            <a:ext cx="495360" cy="495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7" name="Oval 15"/>
          <p:cNvSpPr/>
          <p:nvPr/>
        </p:nvSpPr>
        <p:spPr>
          <a:xfrm>
            <a:off x="7321680" y="4229280"/>
            <a:ext cx="495000" cy="495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8" name="Oval 16"/>
          <p:cNvSpPr/>
          <p:nvPr/>
        </p:nvSpPr>
        <p:spPr>
          <a:xfrm>
            <a:off x="5607000" y="5454720"/>
            <a:ext cx="495360" cy="495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9" name="Oval 17"/>
          <p:cNvSpPr/>
          <p:nvPr/>
        </p:nvSpPr>
        <p:spPr>
          <a:xfrm>
            <a:off x="1601640" y="5273640"/>
            <a:ext cx="495360" cy="495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0" name="Oval 18"/>
          <p:cNvSpPr/>
          <p:nvPr/>
        </p:nvSpPr>
        <p:spPr>
          <a:xfrm>
            <a:off x="3492360" y="3833640"/>
            <a:ext cx="495360" cy="495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DC39B-7EB0-4304-9878-2D5B3F043A86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95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Current/Future Wor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822960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Runtime optimization of B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From softgoals to metrics/KP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Runtime evaluation of BP perform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Context-based adaptation of B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Performance contex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7600" indent="-284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Arial"/>
              </a:rPr>
              <a:t>Contexts based on how well targets are being m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57600" indent="-284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Arial"/>
              </a:rPr>
              <a:t>Modeling mitigation techniqu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From contexts to B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Integration of preference-based, context-based, performance-based adap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859F3-B477-496A-8107-266F42A062A7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827" name="Picture 2" descr="ThankYou_Graphic_White"/>
          <p:cNvPicPr/>
          <p:nvPr/>
        </p:nvPicPr>
        <p:blipFill>
          <a:blip r:embed="rId1"/>
          <a:stretch/>
        </p:blipFill>
        <p:spPr>
          <a:xfrm>
            <a:off x="2319480" y="1895400"/>
            <a:ext cx="4429080" cy="2419560"/>
          </a:xfrm>
          <a:prstGeom prst="rect">
            <a:avLst/>
          </a:prstGeom>
          <a:ln w="0">
            <a:noFill/>
          </a:ln>
        </p:spPr>
      </p:pic>
      <p:sp>
        <p:nvSpPr>
          <p:cNvPr id="828" name="Text Box 3"/>
          <p:cNvSpPr/>
          <p:nvPr/>
        </p:nvSpPr>
        <p:spPr>
          <a:xfrm>
            <a:off x="3223440" y="4641840"/>
            <a:ext cx="26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alexei@cs.toronto.edu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Talk Overvie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0000"/>
                </a:solidFill>
                <a:latin typeface="Arial"/>
              </a:rPr>
              <a:t>Requirements-driven configuration of B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Using contexts to capture domain variability and its effects on BP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Towards adaptive B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B4F80-77AE-419E-A6FA-8D90EC6496AC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EC683-E5F1-4744-A1B0-03786F9F9829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6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otiv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260280" y="1206000"/>
            <a:ext cx="8623440" cy="510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 Business Process (BP) is seen as a collection of </a:t>
            </a:r>
            <a:r>
              <a:rPr b="0" lang="en-CA" sz="1800" spc="-1" strike="noStrike">
                <a:solidFill>
                  <a:srgbClr val="7e9ce8"/>
                </a:solidFill>
                <a:latin typeface="Arial"/>
              </a:rPr>
              <a:t>activities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that achieves a certain </a:t>
            </a:r>
            <a:r>
              <a:rPr b="0" lang="en-CA" sz="1800" spc="-1" strike="noStrike">
                <a:solidFill>
                  <a:srgbClr val="7e9ce8"/>
                </a:solidFill>
                <a:latin typeface="Arial"/>
              </a:rPr>
              <a:t>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However, BPs are usually represented 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workflows (e.g., BPMN), executable workflows (e.g., WS-BP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800" spc="-1" strike="noStrike">
                <a:solidFill>
                  <a:srgbClr val="000000"/>
                </a:solidFill>
                <a:latin typeface="Arial"/>
              </a:rPr>
              <a:t>Can capture and analyze certain aspects of BPs, bu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Problems exis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Purpose is rarely explicitly repres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Workflows do not usually captu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The choices in achieving the goals of B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The rationale for sequencing and other decisions, non-functional asp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Domain properties and how they influence the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Hard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Select process configuration with desired quality characteristic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Configure a process based on the characteristics of the domai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Configure processes at high level, w/o extensive knowledge of modeling not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7e9ce8"/>
                </a:solidFill>
                <a:latin typeface="Arial"/>
                <a:ea typeface="Arial"/>
              </a:rPr>
              <a:t>Maintenance and adaptation are diffic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Supply Customer BP Examp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B4657-B8AF-4535-BA74-ECE0A691CFEC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621" name="Object 4"/>
          <p:cNvGraphicFramePr/>
          <p:nvPr/>
        </p:nvGraphicFramePr>
        <p:xfrm>
          <a:off x="2052720" y="1606680"/>
          <a:ext cx="6216480" cy="451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720" y="1606680"/>
                    <a:ext cx="6216480" cy="45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3" name="AutoShape 7"/>
          <p:cNvSpPr/>
          <p:nvPr/>
        </p:nvSpPr>
        <p:spPr>
          <a:xfrm>
            <a:off x="216000" y="5829480"/>
            <a:ext cx="1346040" cy="609480"/>
          </a:xfrm>
          <a:prstGeom prst="wedgeRoundRectCallout">
            <a:avLst>
              <a:gd name="adj1" fmla="val 114648"/>
              <a:gd name="adj2" fmla="val -70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Functional Goal</a:t>
            </a: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4" name="AutoShape 8"/>
          <p:cNvSpPr/>
          <p:nvPr/>
        </p:nvSpPr>
        <p:spPr>
          <a:xfrm>
            <a:off x="6300720" y="1606680"/>
            <a:ext cx="914400" cy="609480"/>
          </a:xfrm>
          <a:prstGeom prst="wedgeRoundRectCallout">
            <a:avLst>
              <a:gd name="adj1" fmla="val -148092"/>
              <a:gd name="adj2" fmla="val -9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Root Goal</a:t>
            </a: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5" name="AutoShape 9"/>
          <p:cNvSpPr/>
          <p:nvPr/>
        </p:nvSpPr>
        <p:spPr>
          <a:xfrm>
            <a:off x="162000" y="1873080"/>
            <a:ext cx="1512720" cy="609840"/>
          </a:xfrm>
          <a:prstGeom prst="wedgeRoundRectCallout">
            <a:avLst>
              <a:gd name="adj1" fmla="val 96379"/>
              <a:gd name="adj2" fmla="val -3854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Quality Goal (Softgoal)</a:t>
            </a: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6" name="AutoShape 10"/>
          <p:cNvSpPr/>
          <p:nvPr/>
        </p:nvSpPr>
        <p:spPr>
          <a:xfrm>
            <a:off x="162000" y="2817720"/>
            <a:ext cx="1562040" cy="647640"/>
          </a:xfrm>
          <a:prstGeom prst="wedgeRoundRectCallout">
            <a:avLst>
              <a:gd name="adj1" fmla="val 86888"/>
              <a:gd name="adj2" fmla="val -5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Softgoal Contribution</a:t>
            </a: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7" name="AutoShape 11"/>
          <p:cNvSpPr/>
          <p:nvPr/>
        </p:nvSpPr>
        <p:spPr>
          <a:xfrm>
            <a:off x="7812000" y="2089080"/>
            <a:ext cx="1081080" cy="1079640"/>
          </a:xfrm>
          <a:prstGeom prst="wedgeRoundRectCallout">
            <a:avLst>
              <a:gd name="adj1" fmla="val -133111"/>
              <a:gd name="adj2" fmla="val 469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Control Flow Annota-tions</a:t>
            </a: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8" name="AutoShape 14"/>
          <p:cNvSpPr/>
          <p:nvPr/>
        </p:nvSpPr>
        <p:spPr>
          <a:xfrm>
            <a:off x="216000" y="5029200"/>
            <a:ext cx="1346040" cy="609480"/>
          </a:xfrm>
          <a:prstGeom prst="wedgeRoundRectCallout">
            <a:avLst>
              <a:gd name="adj1" fmla="val 453203"/>
              <a:gd name="adj2" fmla="val -22786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Variation Point</a:t>
            </a: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9" name="Oval 16"/>
          <p:cNvSpPr/>
          <p:nvPr/>
        </p:nvSpPr>
        <p:spPr>
          <a:xfrm>
            <a:off x="2411280" y="2368440"/>
            <a:ext cx="360360" cy="27144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0" name="Oval 15"/>
          <p:cNvSpPr/>
          <p:nvPr/>
        </p:nvSpPr>
        <p:spPr>
          <a:xfrm>
            <a:off x="2185920" y="2638440"/>
            <a:ext cx="360360" cy="27144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1" name="Oval 17"/>
          <p:cNvSpPr/>
          <p:nvPr/>
        </p:nvSpPr>
        <p:spPr>
          <a:xfrm>
            <a:off x="4122720" y="5068800"/>
            <a:ext cx="944640" cy="314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2" name="Oval 18"/>
          <p:cNvSpPr/>
          <p:nvPr/>
        </p:nvSpPr>
        <p:spPr>
          <a:xfrm>
            <a:off x="6912000" y="3763800"/>
            <a:ext cx="944640" cy="314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3" name="Oval 19"/>
          <p:cNvSpPr/>
          <p:nvPr/>
        </p:nvSpPr>
        <p:spPr>
          <a:xfrm>
            <a:off x="2681280" y="2908440"/>
            <a:ext cx="944640" cy="314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4" name="Rectangle 25"/>
          <p:cNvSpPr/>
          <p:nvPr/>
        </p:nvSpPr>
        <p:spPr>
          <a:xfrm>
            <a:off x="260280" y="3606840"/>
            <a:ext cx="13492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330066"/>
                </a:solidFill>
                <a:latin typeface="Arial"/>
              </a:rPr>
              <a:t>Help ( + )</a:t>
            </a:r>
            <a:endParaRPr b="1" lang="en-US" sz="14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330066"/>
                </a:solidFill>
                <a:latin typeface="Arial"/>
              </a:rPr>
              <a:t>Make (++)</a:t>
            </a:r>
            <a:endParaRPr b="1" lang="en-US" sz="14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330066"/>
                </a:solidFill>
                <a:latin typeface="Arial"/>
              </a:rPr>
              <a:t>Hurt ( – )</a:t>
            </a:r>
            <a:endParaRPr b="1" lang="en-US" sz="14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330066"/>
                </a:solidFill>
                <a:latin typeface="Arial"/>
              </a:rPr>
              <a:t>Break (</a:t>
            </a:r>
            <a:r>
              <a:rPr b="1" lang="ru-RU" sz="14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CA" sz="14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ru-RU" sz="14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CA" sz="14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ru-RU" sz="1400" spc="-1" strike="noStrike">
                <a:solidFill>
                  <a:srgbClr val="330066"/>
                </a:solidFill>
                <a:latin typeface="Arial"/>
              </a:rPr>
              <a:t> )</a:t>
            </a:r>
            <a:endParaRPr b="1" lang="en-US" sz="14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2E10A-27F2-420B-ABCC-E1F9D63B9C81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Increasing Precision with Annota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31640" y="171756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Goal models do not capture enough information to be useful in semi-automatic generation of workfl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Annotations to increase preci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Annot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Control flow (sequence, concurrency, loops, condition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External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Input/output can also be model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3399"/>
                </a:solidFill>
                <a:latin typeface="Arial"/>
              </a:rPr>
              <a:t>Annotations – capture domain properties, not design decision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6E820-374E-4912-B0B0-0B6CCA3DC1C0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Increasing Precision with Annota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2" name="Rectangle 5"/>
          <p:cNvSpPr/>
          <p:nvPr/>
        </p:nvSpPr>
        <p:spPr>
          <a:xfrm>
            <a:off x="0" y="20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643" name="Object 4"/>
          <p:cNvGraphicFramePr/>
          <p:nvPr/>
        </p:nvGraphicFramePr>
        <p:xfrm>
          <a:off x="1467000" y="1538280"/>
          <a:ext cx="6597360" cy="479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7000" y="1538280"/>
                    <a:ext cx="6597360" cy="47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5" name="Oval 6"/>
          <p:cNvSpPr/>
          <p:nvPr/>
        </p:nvSpPr>
        <p:spPr>
          <a:xfrm>
            <a:off x="3581280" y="3743280"/>
            <a:ext cx="126072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6" name="Oval 7"/>
          <p:cNvSpPr/>
          <p:nvPr/>
        </p:nvSpPr>
        <p:spPr>
          <a:xfrm>
            <a:off x="5381640" y="3789360"/>
            <a:ext cx="108108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7" name="AutoShape 8"/>
          <p:cNvSpPr/>
          <p:nvPr/>
        </p:nvSpPr>
        <p:spPr>
          <a:xfrm>
            <a:off x="297000" y="3068640"/>
            <a:ext cx="1368360" cy="638280"/>
          </a:xfrm>
          <a:prstGeom prst="wedgeRoundRectCallout">
            <a:avLst>
              <a:gd name="adj1" fmla="val 205569"/>
              <a:gd name="adj2" fmla="val 87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8" name="Oval 10"/>
          <p:cNvSpPr/>
          <p:nvPr/>
        </p:nvSpPr>
        <p:spPr>
          <a:xfrm>
            <a:off x="1511280" y="5364000"/>
            <a:ext cx="1216080" cy="360360"/>
          </a:xfrm>
          <a:prstGeom prst="ellipse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9" name="AutoShape 9"/>
          <p:cNvSpPr/>
          <p:nvPr/>
        </p:nvSpPr>
        <p:spPr>
          <a:xfrm>
            <a:off x="206280" y="4373640"/>
            <a:ext cx="1368360" cy="728640"/>
          </a:xfrm>
          <a:prstGeom prst="wedgeRoundRectCallout">
            <a:avLst>
              <a:gd name="adj1" fmla="val 56148"/>
              <a:gd name="adj2" fmla="val 10817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External Events</a:t>
            </a: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0" name="Oval 13"/>
          <p:cNvSpPr/>
          <p:nvPr/>
        </p:nvSpPr>
        <p:spPr>
          <a:xfrm>
            <a:off x="4976640" y="3024360"/>
            <a:ext cx="1035360" cy="36180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1" name="AutoShape 12"/>
          <p:cNvSpPr/>
          <p:nvPr/>
        </p:nvSpPr>
        <p:spPr>
          <a:xfrm>
            <a:off x="6686640" y="1584360"/>
            <a:ext cx="1368360" cy="549360"/>
          </a:xfrm>
          <a:prstGeom prst="wedgeRoundRectCallout">
            <a:avLst>
              <a:gd name="adj1" fmla="val -112296"/>
              <a:gd name="adj2" fmla="val 2268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Loops</a:t>
            </a: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2" name="AutoShape 14"/>
          <p:cNvSpPr/>
          <p:nvPr/>
        </p:nvSpPr>
        <p:spPr>
          <a:xfrm>
            <a:off x="7316640" y="2259000"/>
            <a:ext cx="1576440" cy="549360"/>
          </a:xfrm>
          <a:prstGeom prst="wedgeRoundRectCallout">
            <a:avLst>
              <a:gd name="adj1" fmla="val -91087"/>
              <a:gd name="adj2" fmla="val 1179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3" name="Oval 15"/>
          <p:cNvSpPr/>
          <p:nvPr/>
        </p:nvSpPr>
        <p:spPr>
          <a:xfrm>
            <a:off x="6146640" y="2889360"/>
            <a:ext cx="765360" cy="40464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4" name="Oval 16"/>
          <p:cNvSpPr/>
          <p:nvPr/>
        </p:nvSpPr>
        <p:spPr>
          <a:xfrm>
            <a:off x="4616280" y="2124000"/>
            <a:ext cx="765360" cy="40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5" name="AutoShape 17"/>
          <p:cNvSpPr/>
          <p:nvPr/>
        </p:nvSpPr>
        <p:spPr>
          <a:xfrm>
            <a:off x="5651640" y="998640"/>
            <a:ext cx="1368360" cy="549000"/>
          </a:xfrm>
          <a:prstGeom prst="wedgeRoundRectCallout">
            <a:avLst>
              <a:gd name="adj1" fmla="val -89097"/>
              <a:gd name="adj2" fmla="val 1809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Sequence</a:t>
            </a: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EE077-00BA-4728-8B30-EFAB604086E5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High-Level BP Configur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075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Want to configure BPs based on preferences over </a:t>
            </a:r>
            <a:r>
              <a:rPr b="0" lang="en-CA" sz="2600" spc="-1" strike="noStrike">
                <a:solidFill>
                  <a:srgbClr val="7e9ce8"/>
                </a:solidFill>
                <a:latin typeface="Arial"/>
              </a:rPr>
              <a:t>quality attributes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(softgoal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Main mechanism to capture variability and to configure goal models: </a:t>
            </a:r>
            <a:r>
              <a:rPr b="0" i="1" lang="en-CA" sz="2600" spc="-1" strike="noStrike">
                <a:solidFill>
                  <a:srgbClr val="7e9ce8"/>
                </a:solidFill>
                <a:latin typeface="Arial"/>
              </a:rPr>
              <a:t>preference-driven</a:t>
            </a:r>
            <a:r>
              <a:rPr b="0" lang="en-CA" sz="2600" spc="-1" strike="noStrike">
                <a:solidFill>
                  <a:srgbClr val="7e9ce8"/>
                </a:solidFill>
                <a:latin typeface="Arial"/>
              </a:rPr>
              <a:t> OR decompositions 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CA" sz="2600" spc="-1" strike="noStrike">
                <a:solidFill>
                  <a:srgbClr val="7e9ce8"/>
                </a:solidFill>
                <a:latin typeface="Arial"/>
              </a:rPr>
              <a:t> </a:t>
            </a:r>
            <a:r>
              <a:rPr b="0" i="1" lang="en-CA" sz="2600" spc="-1" strike="noStrike">
                <a:solidFill>
                  <a:srgbClr val="7e9ce8"/>
                </a:solidFill>
                <a:latin typeface="Arial"/>
              </a:rPr>
              <a:t>Variation Poi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(vs. data-driven or event-driven process variation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E.g., Ship Order: either Ship Standard or Ship Ex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Alternatives achieve the same t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Difference in </a:t>
            </a:r>
            <a:r>
              <a:rPr b="0" lang="en-CA" sz="2200" spc="-1" strike="noStrike">
                <a:solidFill>
                  <a:srgbClr val="7e9ce8"/>
                </a:solidFill>
                <a:latin typeface="Arial"/>
              </a:rPr>
              <a:t>softgoal contrib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 u="sng">
                <a:solidFill>
                  <a:srgbClr val="ff3399"/>
                </a:solidFill>
                <a:uFillTx/>
                <a:latin typeface="Arial"/>
              </a:rPr>
              <a:t>Softgoals act as selection criteria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for choosing BP configu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22:38:40Z</dcterms:created>
  <dc:creator>AL</dc:creator>
  <dc:description/>
  <dc:language>en-US</dc:language>
  <cp:lastModifiedBy>Alexei Lapouchnian</cp:lastModifiedBy>
  <dcterms:modified xsi:type="dcterms:W3CDTF">2008-10-29T15:50:43Z</dcterms:modified>
  <cp:revision>250</cp:revision>
  <dc:subject/>
  <dc:title>Slide 1</dc:title>
</cp:coreProperties>
</file>