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4.wmf" ContentType="image/x-wmf"/>
  <Override PartName="/ppt/media/image17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8.jpeg" ContentType="image/jpeg"/>
  <Override PartName="/ppt/media/image31.wmf" ContentType="image/x-wmf"/>
  <Override PartName="/ppt/media/image43.wmf" ContentType="image/x-wmf"/>
  <Override PartName="/ppt/media/image33.png" ContentType="image/png"/>
  <Override PartName="/ppt/media/image30.gif" ContentType="image/gif"/>
  <Override PartName="/ppt/media/image8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5.wmf" ContentType="image/x-wmf"/>
  <Override PartName="/ppt/media/image4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1226880" y="690480"/>
            <a:ext cx="4608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901440" y="4422600"/>
            <a:ext cx="5181480" cy="41450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33"/>
          </p:nvPr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34"/>
          </p:nvPr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0A74DA72-9768-4756-BAE2-0C23474696F9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3A7F230D-6820-4DD4-A32F-9ACE5BDD0CC9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EA8215B2-C3FB-492E-A1BA-7113E7E9067A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2EC3AD0D-FC5A-43CE-B601-75C218F8CAFF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FFC-1D45-494C-9AF2-9EDE46D2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F0A-F059-478D-A085-422EF2AB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E65C2-CAE8-407B-91F9-CA402D2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A39-3300-4D6A-AC5D-4EEA5DB8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EE5348-3164-4B1D-9463-D7A05537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87698A-7D45-4A9D-B9E4-5FBF354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5E94EA-784E-4E8D-8362-5FE73975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598061-8357-4A6A-8196-0D75EA66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C79283-07CB-4CD2-AE97-44A849ED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416B53-983F-4AB0-B017-1C5D0DD6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66884A-DB03-4F08-9496-233FA317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672A9-7A67-4A98-BE33-0A21F6D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30B591-4E4B-4F1F-BB77-618EECAB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738612-0E46-4DFF-9671-46DDE6A9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9BE-01D4-4288-B505-B1CEDE05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6C6E8-B36C-4215-BEDD-248643D7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C6E9-E233-402C-86A5-63F5A4DD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D754-67A0-49C6-BE7A-00DD77ED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0D47-A433-4C4C-87E7-B5B0B420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11FE-290A-4470-8F84-28420362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A382-712A-4FE4-A979-AE98EA8F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B133-0EAB-43AD-9543-D5182F0B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0B3D-C0FF-469F-BF89-C5EB070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3AB-5344-4106-B79D-F8792F54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EDC-7E15-4DBA-B6EA-ED3D840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5DD7-DDCB-40BF-B919-5DF739F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E0F-702D-4B3D-9E7C-90474792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69FB-C5EE-480C-B229-9E972BA8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1338-D86C-4605-9ECA-72646F96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3E0B-7EFE-4681-A790-125839CD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D6A7-D2FB-4E7A-B520-89AD183D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B77D-9C20-4183-8B07-D6571D68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7F83-E42D-4FE0-BFC1-692E347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66BC-4373-469F-AF08-B065850C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219-2FEB-4A22-A6B9-003C26C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2089-9DAB-4DB7-9F94-5D13F45F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CE8D-D8EF-4654-8CEF-24F156EE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79B3-F0C9-48C7-BFD7-45BB40C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2E33-8CAE-4B3B-8709-A104D9F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96F7-44AF-42D5-888A-DC8D2D4F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CE16-54E7-4B91-AE9B-1EACA718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A07F-930A-40A3-BF29-7DAFA7EC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39D4-D4DA-43FA-833A-D837AC39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4FC2-6F41-4073-A8BB-0B5CF79C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8DE6-2ED6-40F5-8166-A996B473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58F-C2EB-4535-BCF1-F20195BE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8C58-ACDB-4CAF-BF59-386136A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B9D0-B8FC-49FE-A02F-0DE9FE58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5F455-4F21-48FD-BC78-B6397970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57FA-2D11-4746-B108-8A0FDB2E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E33DC-BEAE-4B11-B0B0-B979A65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4FED-37DA-49B3-AB3C-536D8C5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844A-5E63-4A2C-90A9-025618A8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2A30-3D50-470A-BDFA-FC9D61F2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F9A1-C426-4237-B822-95FC10C6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9D06B-44C2-400C-9269-A30BCFEA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9D6-9803-4232-B2BD-DCAB45F0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B2C6-1EA6-4A49-B9F8-AEA603DD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36BDD-DA42-4B10-96DE-85125A4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EA3F5-61C1-4AA7-8E69-9F4B8E5F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EECC-E580-4F35-9A5A-F9E863E6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722A-F853-4E16-872A-39A4DA0C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302E-0CFB-4BD9-AF7D-93E0DDF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02F5D-EC07-4857-842A-5AA552B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1FF5-4627-4843-98BE-45AD8011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BD9B7-21F6-484D-A83C-842AB9B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5693-1C71-4C53-9999-F0D664F1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0DE-3906-44A4-87D8-1ED9F09D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6CB8-D835-44F4-8820-FBB983B4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5289A-686A-4328-AA1D-2F0370ED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99381-43CB-4D0F-BBA0-84A19489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6D207-01C7-44A2-8DFB-EED0CB3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7922-DE46-45F3-940A-1D8DF9B7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9010-70FE-459D-B395-CB6E3890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1CC9B-6619-412A-A84A-4CDD994D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10882-B50A-4AF1-884B-F587B86D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209E-7F45-43D5-8105-215F07C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A4E10-CA09-49F0-A0D5-9729820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9E5-BB50-4A6F-BE98-AC997CCE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8BD6-084D-488A-A648-C8A9DFB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98B50-65F1-4999-B99C-B61B5031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C83F4-359E-4F22-98BF-9EBF3BBF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2A605-6BF8-46A0-99A2-B266715A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C5D4-CBAA-41E4-8106-0E586CF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A0CF6-85E7-44EA-A86F-A6CB9AB1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DB86-1970-44DC-875A-33B5C70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5E29-0C8B-4611-90B4-BEB1AB8B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F61F-22A3-4897-A4FA-42FBEFA6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5D19-FBA2-4E96-B7ED-4F4FE1F9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908-255B-4642-84A6-973B17CE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6C84-4936-41CD-AE9F-9D2BA0E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79AE2-A535-4F51-9C68-C574AC7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0DDD2-3C64-40BA-8FB1-6B94BFA6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80BB-0426-4A15-A59C-4F8C8B31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DC556-B540-49EB-BF4C-AED17EE3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3C51C-F886-470F-A4E1-FAEB46EB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DEFC-C98F-4556-8CE1-3E28B9D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885CA-643E-45FF-A67D-754564D8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9228-E8B8-459C-8271-A9F036C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E3B6A-FB8E-463C-95FD-5A0539C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A1D-C4A5-4ADC-A8B3-6B2444DE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74753-7B6F-4ADE-9D70-8B1B940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AC7C-94B2-415E-9494-4C94A203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7D628-DDDC-4558-B733-84DFEBD1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03D8-1B1E-4159-A220-90D70E3C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43F2-ADC8-45D9-BA61-4B7C2DEC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16C1-D93A-4921-B5CD-498E4E63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5913-F0DE-4E36-B6E4-81D1D631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-360" y="6369120"/>
            <a:ext cx="522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F0A9-C09D-4167-9933-3ACDAED117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9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409A-5B8C-48C3-89FA-97FB0E32631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30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@ Eric Yu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F17C-02B4-4B25-B2BC-F848AEEBA5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C7FB-39E5-43EF-986E-B94BF223A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505A-D69B-4CA3-AA26-AB9DD2E0B4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83B7-08D3-41DD-BA09-301FBDD1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F907-692F-4E00-81DA-19983D35D4C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FB86-B5F1-492B-9C4C-CA0CEA9E6E7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06668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3283-D5A1-49C8-A8A7-4A36313183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5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8.xml"/><Relationship Id="rId2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gif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slideLayout" Target="../slideLayouts/slideLayout5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hyperlink" Target="http://www.ischool.utoronto.ca/~yu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4520" y="10954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Strategic Business Modeling with </a:t>
            </a:r>
            <a:r>
              <a:rPr b="1" i="1" lang="en-CA" sz="48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419120" y="3476520"/>
            <a:ext cx="64008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ric Y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niversity of Toro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resented at CASCON Workshop 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Requirements-Driven Business Process Modelling and Performance Management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Markham, Ontario, Ca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ctober 29, 200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6477120" y="6195960"/>
            <a:ext cx="26668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061-F258-4CFD-931F-58D7AB6B5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2145" t="12541" r="3373" b="5853"/>
          <a:stretch/>
        </p:blipFill>
        <p:spPr>
          <a:xfrm>
            <a:off x="533520" y="228600"/>
            <a:ext cx="8001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94A1-AEDD-48AF-82CA-08AB4A9AD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2607" t="13078" r="3737" b="7605"/>
          <a:stretch/>
        </p:blipFill>
        <p:spPr>
          <a:xfrm>
            <a:off x="228600" y="304920"/>
            <a:ext cx="86868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Strategic Rationales</a:t>
            </a:r>
            <a:r>
              <a:rPr b="0" lang="en-CA" sz="2800" spc="-1" strike="noStrike">
                <a:solidFill>
                  <a:srgbClr val="333399"/>
                </a:solidFill>
                <a:latin typeface="Tahoma"/>
              </a:rPr>
              <a:t> about alternative configurations of relationships with other actors – 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Why? How? How else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71480" y="1652760"/>
            <a:ext cx="8372520" cy="52052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510680" y="6272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Tahoma"/>
              </a:rPr>
              <a:t>[Yu AOSE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9C2-267C-409B-BD5B-DFDC49E6D6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686800" cy="54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BFF-6C17-4BEF-9056-CD8B460626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An Exampl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eeting Schedule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218960" y="5037120"/>
            <a:ext cx="7010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From: E. Yu. Towards Modelling and Reasoning Support for Early-Phase Requirements Engineering 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3rd IEEE Int. Symp. on Requirements Engineering (RE'97) Jan. 6-8, 1997, Washington D.C., USA. pp. 226-23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EDDB-4E9A-4CB7-9D43-CFEEEE88CCD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4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Dependency (SD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59436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Meeting Scheduling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19960" y="762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Tahoma"/>
                <a:ea typeface="SimSun"/>
              </a:rPr>
              <a:t>[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Yu RE9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217160" y="1066680"/>
            <a:ext cx="4279320" cy="360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0" y="15"/>
                </a:moveTo>
                <a:arcTo wR="10800" hR="10800" stAng="-5578389" swAng="4630708"/>
                <a:lnTo>
                  <a:pt x="10800" y="10800"/>
                </a:lnTo>
                <a:close/>
              </a:path>
              <a:path fill="none" w="21600" h="21600">
                <a:moveTo>
                  <a:pt x="10240" y="15"/>
                </a:moveTo>
                <a:arcTo wR="10800" hR="10800" stAng="-5578389" swAng="46307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22680" y="1068480"/>
            <a:ext cx="6383880" cy="24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0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05854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62920" y="16765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243828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335268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852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63796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23200">
            <a:off x="2438280" y="3428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106400">
            <a:off x="2894400" y="4723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48006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-1776240" y="-340920"/>
            <a:ext cx="9801000" cy="403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31" y="156"/>
                </a:moveTo>
                <a:arcTo wR="10800" hR="10800" stAng="-4814260" swAng="3047218"/>
                <a:lnTo>
                  <a:pt x="10800" y="10800"/>
                </a:lnTo>
                <a:close/>
              </a:path>
              <a:path fill="none" w="21600" h="21600">
                <a:moveTo>
                  <a:pt x="12631" y="156"/>
                </a:moveTo>
                <a:arcTo wR="10800" hR="10800" stAng="-4814260" swAng="304721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292040" y="1446840"/>
            <a:ext cx="549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3" y="67"/>
                </a:moveTo>
                <a:arcTo wR="10800" hR="10800" stAng="-5781843" swAng="5745969"/>
                <a:lnTo>
                  <a:pt x="10800" y="10800"/>
                </a:lnTo>
                <a:close/>
              </a:path>
              <a:path fill="none" w="21600" h="21600">
                <a:moveTo>
                  <a:pt x="9603" y="67"/>
                </a:moveTo>
                <a:arcTo wR="10800" hR="10800" stAng="-5781843" swAng="574596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86656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51388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437560" y="1752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5637960" y="1676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1384200">
            <a:off x="2437200" y="3962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0437200">
            <a:off x="5714640" y="320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96252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1135440" y="1231200"/>
            <a:ext cx="8213400" cy="39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92" y="225"/>
                </a:moveTo>
                <a:arcTo wR="10800" hR="10800" stAng="-4697323" swAng="5061222"/>
                <a:lnTo>
                  <a:pt x="10800" y="10800"/>
                </a:lnTo>
                <a:close/>
              </a:path>
              <a:path fill="none" w="21600" h="21600">
                <a:moveTo>
                  <a:pt x="12992" y="225"/>
                </a:moveTo>
                <a:arcTo wR="10800" hR="10800" stAng="-4697323" swAng="506122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522080" y="-1396800"/>
            <a:ext cx="625212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2111" swAng="3070551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2111" swAng="307055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rot="20440200">
            <a:off x="5943240" y="3962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989640" y="1184400"/>
            <a:ext cx="4012920" cy="471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25" y="493"/>
                </a:moveTo>
                <a:arcTo wR="10800" hR="10800" stAng="-4357489" swAng="5199007"/>
                <a:lnTo>
                  <a:pt x="10800" y="10800"/>
                </a:lnTo>
                <a:close/>
              </a:path>
              <a:path fill="none" w="21600" h="21600">
                <a:moveTo>
                  <a:pt x="14025" y="493"/>
                </a:moveTo>
                <a:arcTo wR="10800" hR="10800" stAng="-4357489" swAng="5199007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01920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14720" y="5087880"/>
            <a:ext cx="1749240" cy="11066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62320" y="5257800"/>
            <a:ext cx="150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86600" y="4572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67520" y="4876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9810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07320" y="32004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19810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7040" y="220968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8380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3880" y="1828800"/>
            <a:ext cx="1600200" cy="53352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cubicBezTo>
                  <a:pt x="172" y="272"/>
                  <a:pt x="344" y="160"/>
                  <a:pt x="528" y="96"/>
                </a:cubicBezTo>
                <a:cubicBezTo>
                  <a:pt x="712" y="32"/>
                  <a:pt x="1008" y="16"/>
                  <a:pt x="110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1763640"/>
            <a:ext cx="3200400" cy="446040"/>
          </a:xfrm>
          <a:custGeom>
            <a:avLst/>
            <a:gdLst/>
            <a:ahLst/>
            <a:rect l="l" t="t" r="r" b="b"/>
            <a:pathLst>
              <a:path w="2016" h="280">
                <a:moveTo>
                  <a:pt x="0" y="40"/>
                </a:moveTo>
                <a:cubicBezTo>
                  <a:pt x="384" y="20"/>
                  <a:pt x="768" y="0"/>
                  <a:pt x="1104" y="40"/>
                </a:cubicBezTo>
                <a:cubicBezTo>
                  <a:pt x="1440" y="80"/>
                  <a:pt x="1864" y="240"/>
                  <a:pt x="2016" y="28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160020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696080" y="2743200"/>
            <a:ext cx="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438280"/>
            <a:ext cx="2514600" cy="266760"/>
          </a:xfrm>
          <a:custGeom>
            <a:avLst/>
            <a:gdLst/>
            <a:ahLst/>
            <a:rect l="l" t="t" r="r" b="b"/>
            <a:pathLst>
              <a:path w="1584" h="168">
                <a:moveTo>
                  <a:pt x="0" y="0"/>
                </a:moveTo>
                <a:cubicBezTo>
                  <a:pt x="252" y="60"/>
                  <a:pt x="504" y="120"/>
                  <a:pt x="768" y="144"/>
                </a:cubicBezTo>
                <a:cubicBezTo>
                  <a:pt x="1032" y="168"/>
                  <a:pt x="1448" y="144"/>
                  <a:pt x="15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2514600"/>
            <a:ext cx="2057400" cy="177840"/>
          </a:xfrm>
          <a:custGeom>
            <a:avLst/>
            <a:gdLst/>
            <a:ahLst/>
            <a:rect l="l" t="t" r="r" b="b"/>
            <a:pathLst>
              <a:path w="1296" h="112">
                <a:moveTo>
                  <a:pt x="0" y="96"/>
                </a:moveTo>
                <a:cubicBezTo>
                  <a:pt x="276" y="104"/>
                  <a:pt x="552" y="112"/>
                  <a:pt x="768" y="96"/>
                </a:cubicBezTo>
                <a:cubicBezTo>
                  <a:pt x="984" y="80"/>
                  <a:pt x="1208" y="16"/>
                  <a:pt x="12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3880" y="2743200"/>
            <a:ext cx="1524240" cy="914400"/>
          </a:xfrm>
          <a:custGeom>
            <a:avLst/>
            <a:gdLst/>
            <a:ahLst/>
            <a:rect l="l" t="t" r="r" b="b"/>
            <a:pathLst>
              <a:path w="960" h="576">
                <a:moveTo>
                  <a:pt x="0" y="0"/>
                </a:moveTo>
                <a:cubicBezTo>
                  <a:pt x="136" y="168"/>
                  <a:pt x="272" y="336"/>
                  <a:pt x="432" y="432"/>
                </a:cubicBezTo>
                <a:cubicBezTo>
                  <a:pt x="592" y="528"/>
                  <a:pt x="872" y="552"/>
                  <a:pt x="960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-454680" y="-968760"/>
            <a:ext cx="10231920" cy="61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89" y="118"/>
                </a:moveTo>
                <a:arcTo wR="10800" hR="10800" stAng="-4892305" swAng="1317808"/>
                <a:lnTo>
                  <a:pt x="10800" y="10800"/>
                </a:lnTo>
                <a:close/>
              </a:path>
              <a:path fill="none" w="21600" h="21600">
                <a:moveTo>
                  <a:pt x="12389" y="118"/>
                </a:moveTo>
                <a:arcTo wR="10800" hR="10800" stAng="-4892305" swAng="13178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-6332400" y="-25200"/>
            <a:ext cx="1799820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8" y="102"/>
                </a:moveTo>
                <a:arcTo wR="10800" hR="10800" stAng="-4928009" swAng="1359979"/>
                <a:lnTo>
                  <a:pt x="10800" y="10800"/>
                </a:lnTo>
                <a:close/>
              </a:path>
              <a:path fill="none" w="21600" h="21600">
                <a:moveTo>
                  <a:pt x="12278" y="102"/>
                </a:moveTo>
                <a:arcTo wR="10800" hR="10800" stAng="-4928009" swAng="135997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rot="20437800">
            <a:off x="6018840" y="54212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rot="2424000">
            <a:off x="1676520" y="5257440"/>
            <a:ext cx="2289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56560" y="410364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3FF8-C114-4056-AD66-1523F51F24E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 (SR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Ask “Why”, “How”, “How el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49568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380988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s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033600">
            <a:off x="2403360" y="3619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3616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1677240" y="1948680"/>
            <a:ext cx="200772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12" y="481"/>
                </a:moveTo>
                <a:arcTo wR="10800" hR="10800" stAng="-6430228" swAng="5151150"/>
                <a:lnTo>
                  <a:pt x="10800" y="10800"/>
                </a:lnTo>
                <a:close/>
              </a:path>
              <a:path fill="none" w="21600" h="21600">
                <a:moveTo>
                  <a:pt x="7612" y="481"/>
                </a:moveTo>
                <a:arcTo wR="10800" hR="10800" stAng="-6430228" swAng="515115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21680" y="42102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rot="1419600">
            <a:off x="5104440" y="2057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594360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21025800">
            <a:off x="3200040" y="198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423600">
            <a:off x="5217480" y="4570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8360" y="1901880"/>
            <a:ext cx="3521160" cy="5105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2209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28840" y="3098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1148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4876920"/>
            <a:ext cx="1092240" cy="5839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ind  Suitabl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4800600"/>
            <a:ext cx="914400" cy="533520"/>
          </a:xfrm>
          <a:prstGeom prst="hexagon">
            <a:avLst>
              <a:gd name="adj" fmla="val 2257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095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90800" y="3605040"/>
            <a:ext cx="3240" cy="497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52560" y="5460840"/>
            <a:ext cx="342720" cy="6350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1988640" y="2728440"/>
            <a:ext cx="3240" cy="38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64640" y="2590920"/>
            <a:ext cx="682920" cy="674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2590920"/>
            <a:ext cx="646200" cy="534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168560" y="4611600"/>
            <a:ext cx="480960" cy="279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67040" y="4622760"/>
            <a:ext cx="0" cy="711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4599000"/>
            <a:ext cx="7596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51240" y="4621320"/>
            <a:ext cx="252360" cy="37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88620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38862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3392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92800" y="1257480"/>
            <a:ext cx="3840120" cy="525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62720" y="2666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0574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487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56080" y="373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3809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43600" y="4648320"/>
            <a:ext cx="1219320" cy="507960"/>
          </a:xfrm>
          <a:prstGeom prst="hexagon">
            <a:avLst>
              <a:gd name="adj" fmla="val 3161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Agreeabl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48520" y="54864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95880" y="2437920"/>
            <a:ext cx="7621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7391520" y="2554200"/>
            <a:ext cx="0" cy="49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7975440" y="2514600"/>
            <a:ext cx="270000" cy="28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66688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620120" y="3315960"/>
            <a:ext cx="671400" cy="493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8632800" y="3319560"/>
            <a:ext cx="176400" cy="428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610480" y="3962520"/>
            <a:ext cx="228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934320" y="4290840"/>
            <a:ext cx="317520" cy="357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267080"/>
            <a:ext cx="152280" cy="3812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67480" y="53658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26280" y="465768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84880" y="441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4480" y="4241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61804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38480" y="52578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414080" y="3570840"/>
            <a:ext cx="5227200" cy="261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0" y="20"/>
                </a:moveTo>
                <a:arcTo wR="10800" hR="10800" stAng="-5610334" swAng="3272976"/>
                <a:lnTo>
                  <a:pt x="10800" y="10800"/>
                </a:lnTo>
                <a:close/>
              </a:path>
              <a:path fill="none" w="21600" h="21600">
                <a:moveTo>
                  <a:pt x="10140" y="20"/>
                </a:moveTo>
                <a:arcTo wR="10800" hR="10800" stAng="-5610334" swAng="327297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227320" y="3741480"/>
            <a:ext cx="3417840" cy="181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6" y="19"/>
                </a:moveTo>
                <a:arcTo wR="10800" hR="10800" stAng="-5605180" swAng="5659558"/>
                <a:lnTo>
                  <a:pt x="10800" y="10800"/>
                </a:lnTo>
                <a:close/>
              </a:path>
              <a:path fill="none" w="21600" h="21600">
                <a:moveTo>
                  <a:pt x="10156" y="19"/>
                </a:moveTo>
                <a:arcTo wR="10800" hR="10800" stAng="-5605180" swAng="565955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518148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rot="20589600">
            <a:off x="3744360" y="40021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rot="1458000">
            <a:off x="5157720" y="41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rot="20854800">
            <a:off x="3809520" y="457164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656880" y="6019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509440" y="5999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033600">
            <a:off x="5396040" y="5420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1413400">
            <a:off x="3704760" y="5410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13716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0720" y="1600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1143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72240" y="1447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2629080"/>
            <a:ext cx="76320" cy="14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916280" y="2831760"/>
            <a:ext cx="153720" cy="12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489040" y="2593800"/>
            <a:ext cx="101880" cy="16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3505320"/>
            <a:ext cx="763560" cy="74268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0"/>
                </a:moveTo>
                <a:cubicBezTo>
                  <a:pt x="20" y="120"/>
                  <a:pt x="40" y="240"/>
                  <a:pt x="96" y="336"/>
                </a:cubicBezTo>
                <a:cubicBezTo>
                  <a:pt x="152" y="432"/>
                  <a:pt x="296" y="536"/>
                  <a:pt x="336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03440" y="3505320"/>
            <a:ext cx="544680" cy="7318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cubicBezTo>
                  <a:pt x="100" y="524"/>
                  <a:pt x="200" y="520"/>
                  <a:pt x="288" y="432"/>
                </a:cubicBezTo>
                <a:cubicBezTo>
                  <a:pt x="376" y="344"/>
                  <a:pt x="488" y="72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90720" y="47372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38280" y="4611240"/>
            <a:ext cx="11448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29480" y="2386080"/>
            <a:ext cx="52200" cy="14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001000" y="2514240"/>
            <a:ext cx="7632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79960" y="3298680"/>
            <a:ext cx="663840" cy="6350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cubicBezTo>
                  <a:pt x="52" y="296"/>
                  <a:pt x="104" y="208"/>
                  <a:pt x="192" y="144"/>
                </a:cubicBezTo>
                <a:cubicBezTo>
                  <a:pt x="280" y="80"/>
                  <a:pt x="472" y="24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77320" y="3365640"/>
            <a:ext cx="128520" cy="126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8620200" y="3387600"/>
            <a:ext cx="15228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9720" y="3838680"/>
            <a:ext cx="525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288"/>
                </a:moveTo>
                <a:cubicBezTo>
                  <a:pt x="28" y="240"/>
                  <a:pt x="56" y="192"/>
                  <a:pt x="96" y="144"/>
                </a:cubicBezTo>
                <a:cubicBezTo>
                  <a:pt x="136" y="96"/>
                  <a:pt x="216" y="24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86800" y="4089240"/>
            <a:ext cx="193680" cy="863640"/>
          </a:xfrm>
          <a:custGeom>
            <a:avLst/>
            <a:gdLst/>
            <a:ahLst/>
            <a:rect l="l" t="t" r="r" b="b"/>
            <a:pathLst>
              <a:path w="160" h="528">
                <a:moveTo>
                  <a:pt x="0" y="528"/>
                </a:moveTo>
                <a:cubicBezTo>
                  <a:pt x="64" y="404"/>
                  <a:pt x="128" y="280"/>
                  <a:pt x="144" y="192"/>
                </a:cubicBezTo>
                <a:cubicBezTo>
                  <a:pt x="160" y="104"/>
                  <a:pt x="128" y="52"/>
                  <a:pt x="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629400" y="5157360"/>
            <a:ext cx="0" cy="328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86600" y="4581360"/>
            <a:ext cx="569880" cy="19368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cubicBezTo>
                  <a:pt x="72" y="184"/>
                  <a:pt x="144" y="176"/>
                  <a:pt x="192" y="144"/>
                </a:cubicBezTo>
                <a:cubicBezTo>
                  <a:pt x="240" y="112"/>
                  <a:pt x="272" y="24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33600" y="320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07040" y="378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813520" y="4227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057400"/>
            <a:ext cx="134460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48" y="136"/>
                  <a:pt x="296" y="80"/>
                  <a:pt x="432" y="48"/>
                </a:cubicBezTo>
                <a:cubicBezTo>
                  <a:pt x="568" y="16"/>
                  <a:pt x="752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98800" y="4065480"/>
            <a:ext cx="1116000" cy="711360"/>
          </a:xfrm>
          <a:custGeom>
            <a:avLst/>
            <a:gdLst/>
            <a:ahLst/>
            <a:rect l="l" t="t" r="r" b="b"/>
            <a:pathLst>
              <a:path w="624" h="400">
                <a:moveTo>
                  <a:pt x="0" y="400"/>
                </a:moveTo>
                <a:cubicBezTo>
                  <a:pt x="164" y="264"/>
                  <a:pt x="328" y="128"/>
                  <a:pt x="432" y="64"/>
                </a:cubicBezTo>
                <a:cubicBezTo>
                  <a:pt x="536" y="0"/>
                  <a:pt x="580" y="8"/>
                  <a:pt x="624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5840" y="4102200"/>
            <a:ext cx="106668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cubicBezTo>
                  <a:pt x="184" y="108"/>
                  <a:pt x="368" y="216"/>
                  <a:pt x="480" y="288"/>
                </a:cubicBezTo>
                <a:cubicBezTo>
                  <a:pt x="592" y="360"/>
                  <a:pt x="632" y="396"/>
                  <a:pt x="672" y="43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68800" y="4683240"/>
            <a:ext cx="876240" cy="218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94160" y="4684680"/>
            <a:ext cx="633240" cy="2332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64"/>
                  <a:pt x="136" y="88"/>
                  <a:pt x="192" y="48"/>
                </a:cubicBezTo>
                <a:cubicBezTo>
                  <a:pt x="248" y="8"/>
                  <a:pt x="292" y="4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29200" y="5486400"/>
            <a:ext cx="1332000" cy="63360"/>
          </a:xfrm>
          <a:custGeom>
            <a:avLst/>
            <a:gdLst/>
            <a:ahLst/>
            <a:rect l="l" t="t" r="r" b="b"/>
            <a:pathLst>
              <a:path w="864" h="1">
                <a:moveTo>
                  <a:pt x="0" y="0"/>
                </a:moveTo>
                <a:cubicBezTo>
                  <a:pt x="240" y="0"/>
                  <a:pt x="480" y="0"/>
                  <a:pt x="624" y="0"/>
                </a:cubicBezTo>
                <a:cubicBezTo>
                  <a:pt x="768" y="0"/>
                  <a:pt x="824" y="0"/>
                  <a:pt x="86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0600" y="2057400"/>
            <a:ext cx="990720" cy="60948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0"/>
                </a:moveTo>
                <a:cubicBezTo>
                  <a:pt x="160" y="40"/>
                  <a:pt x="320" y="80"/>
                  <a:pt x="432" y="144"/>
                </a:cubicBezTo>
                <a:cubicBezTo>
                  <a:pt x="544" y="208"/>
                  <a:pt x="608" y="296"/>
                  <a:pt x="672" y="38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61040" y="5052960"/>
            <a:ext cx="771840" cy="206280"/>
          </a:xfrm>
          <a:custGeom>
            <a:avLst/>
            <a:gdLst/>
            <a:ahLst/>
            <a:rect l="l" t="t" r="r" b="b"/>
            <a:pathLst>
              <a:path w="432" h="160">
                <a:moveTo>
                  <a:pt x="0" y="0"/>
                </a:moveTo>
                <a:cubicBezTo>
                  <a:pt x="84" y="64"/>
                  <a:pt x="168" y="128"/>
                  <a:pt x="240" y="144"/>
                </a:cubicBezTo>
                <a:cubicBezTo>
                  <a:pt x="312" y="160"/>
                  <a:pt x="372" y="128"/>
                  <a:pt x="432" y="9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0440" y="309888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16404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6600" y="30654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36680" y="3038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86600" y="359892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420040" y="3649680"/>
            <a:ext cx="723960" cy="4874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97760" y="362268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626160" y="2986200"/>
            <a:ext cx="120672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6240" y="4248000"/>
            <a:ext cx="785880" cy="4892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38880" y="420516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00840" y="4853160"/>
            <a:ext cx="1144800" cy="6616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6080" y="4876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terru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4840" y="3639960"/>
            <a:ext cx="119232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67480" y="3081240"/>
            <a:ext cx="1285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19800" y="3649680"/>
            <a:ext cx="1282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76880" y="5943600"/>
            <a:ext cx="1098360" cy="220680"/>
          </a:xfrm>
          <a:custGeom>
            <a:avLst/>
            <a:gdLst/>
            <a:ahLst/>
            <a:rect l="l" t="t" r="r" b="b"/>
            <a:pathLst>
              <a:path w="692" h="139">
                <a:moveTo>
                  <a:pt x="0" y="132"/>
                </a:moveTo>
                <a:cubicBezTo>
                  <a:pt x="160" y="135"/>
                  <a:pt x="321" y="139"/>
                  <a:pt x="436" y="117"/>
                </a:cubicBezTo>
                <a:cubicBezTo>
                  <a:pt x="551" y="95"/>
                  <a:pt x="621" y="47"/>
                  <a:pt x="69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A2D3-65A0-4855-B68B-934588FE6EF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Scheduling meeting …with meeting schedul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276720" y="62481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Tahoma"/>
              <a:ea typeface="SimSu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53960" y="1219320"/>
            <a:ext cx="5627880" cy="46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115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1155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7040" y="1222200"/>
            <a:ext cx="7781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53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539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812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08720" y="338616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20340600">
            <a:off x="2286000" y="12193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7998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952160" y="4838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46483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987120" y="1979640"/>
            <a:ext cx="11588400" cy="228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81" y="4242"/>
                </a:moveTo>
                <a:arcTo wR="10800" hR="10800" stAng="-2243407" swAng="2207533"/>
                <a:lnTo>
                  <a:pt x="10800" y="10800"/>
                </a:lnTo>
                <a:close/>
              </a:path>
              <a:path fill="none" w="21600" h="21600">
                <a:moveTo>
                  <a:pt x="19381" y="4242"/>
                </a:moveTo>
                <a:arcTo wR="10800" hR="10800" stAng="-2243407" swAng="2207533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1458000">
            <a:off x="3568680" y="2169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1751760" y="216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6400080" y="2057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261920" y="2147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753000">
            <a:off x="4991040" y="3454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401004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rot="1151400">
            <a:off x="5206320" y="397368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59720" y="1093320"/>
            <a:ext cx="11421360" cy="46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78" y="799"/>
                </a:moveTo>
                <a:arcTo wR="10800" hR="10800" stAng="-4068995" swAng="4015336"/>
                <a:lnTo>
                  <a:pt x="10800" y="10800"/>
                </a:lnTo>
                <a:close/>
              </a:path>
              <a:path fill="none" w="21600" h="21600">
                <a:moveTo>
                  <a:pt x="14878" y="799"/>
                </a:moveTo>
                <a:arcTo wR="10800" hR="10800" stAng="-4068995" swAng="401533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rot="1745400">
            <a:off x="1878840" y="4455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rot="20271600">
            <a:off x="7539840" y="39704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0574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350532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91320" y="205740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AvailDates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0393400">
            <a:off x="6818400" y="3441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9942800">
            <a:off x="3417840" y="3557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189200">
            <a:off x="1447560" y="35049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rot="20133600">
            <a:off x="5333760" y="2082960"/>
            <a:ext cx="228600" cy="26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24382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9840" y="2743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20120" y="2286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48769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48400" y="51814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64520" y="3809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77000" y="2590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129520" y="3328920"/>
            <a:ext cx="0" cy="1573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90720" y="2260440"/>
            <a:ext cx="1255680" cy="33048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24" y="136"/>
                  <a:pt x="248" y="80"/>
                  <a:pt x="384" y="48"/>
                </a:cubicBezTo>
                <a:cubicBezTo>
                  <a:pt x="520" y="16"/>
                  <a:pt x="744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14880" y="2235240"/>
            <a:ext cx="838080" cy="30492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3505320"/>
            <a:ext cx="930240" cy="228600"/>
          </a:xfrm>
          <a:custGeom>
            <a:avLst/>
            <a:gdLst/>
            <a:ahLst/>
            <a:rect l="l" t="t" r="r" b="b"/>
            <a:pathLst>
              <a:path w="672" h="96">
                <a:moveTo>
                  <a:pt x="0" y="96"/>
                </a:moveTo>
                <a:cubicBezTo>
                  <a:pt x="184" y="80"/>
                  <a:pt x="368" y="64"/>
                  <a:pt x="480" y="48"/>
                </a:cubicBezTo>
                <a:cubicBezTo>
                  <a:pt x="592" y="32"/>
                  <a:pt x="632" y="16"/>
                  <a:pt x="6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37280" y="2249640"/>
            <a:ext cx="735120" cy="26496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88" y="12"/>
                  <a:pt x="176" y="24"/>
                  <a:pt x="240" y="48"/>
                </a:cubicBezTo>
                <a:cubicBezTo>
                  <a:pt x="304" y="72"/>
                  <a:pt x="344" y="108"/>
                  <a:pt x="3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648720" y="684000"/>
            <a:ext cx="6093360" cy="426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98" y="690"/>
                </a:moveTo>
                <a:arcTo wR="10800" hR="10800" stAng="-4164595" swAng="3076182"/>
                <a:lnTo>
                  <a:pt x="10800" y="10800"/>
                </a:lnTo>
                <a:close/>
              </a:path>
              <a:path fill="none" w="21600" h="21600">
                <a:moveTo>
                  <a:pt x="14598" y="690"/>
                </a:moveTo>
                <a:arcTo wR="10800" hR="10800" stAng="-4164595" swAng="307618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4876920"/>
            <a:ext cx="3946680" cy="257040"/>
          </a:xfrm>
          <a:custGeom>
            <a:avLst/>
            <a:gdLst/>
            <a:ahLst/>
            <a:rect l="l" t="t" r="r" b="b"/>
            <a:pathLst>
              <a:path w="2448" h="168">
                <a:moveTo>
                  <a:pt x="0" y="0"/>
                </a:moveTo>
                <a:cubicBezTo>
                  <a:pt x="756" y="60"/>
                  <a:pt x="1512" y="120"/>
                  <a:pt x="1920" y="144"/>
                </a:cubicBezTo>
                <a:cubicBezTo>
                  <a:pt x="2328" y="168"/>
                  <a:pt x="2388" y="156"/>
                  <a:pt x="2448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5702400"/>
            <a:ext cx="2017440" cy="101520"/>
          </a:xfrm>
          <a:custGeom>
            <a:avLst/>
            <a:gdLst/>
            <a:ahLst/>
            <a:rect l="l" t="t" r="r" b="b"/>
            <a:pathLst>
              <a:path w="1248" h="56">
                <a:moveTo>
                  <a:pt x="0" y="48"/>
                </a:moveTo>
                <a:cubicBezTo>
                  <a:pt x="256" y="52"/>
                  <a:pt x="512" y="56"/>
                  <a:pt x="720" y="48"/>
                </a:cubicBezTo>
                <a:cubicBezTo>
                  <a:pt x="928" y="40"/>
                  <a:pt x="1088" y="20"/>
                  <a:pt x="124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rot="1260000">
            <a:off x="2284920" y="50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027120" y="56386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53320" y="403848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19680" y="5213520"/>
            <a:ext cx="1749240" cy="10810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38480" y="5410080"/>
            <a:ext cx="15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22680" y="3484440"/>
            <a:ext cx="1681200" cy="766800"/>
          </a:xfrm>
          <a:custGeom>
            <a:avLst/>
            <a:gdLst/>
            <a:ahLst/>
            <a:rect l="l" t="t" r="r" b="b"/>
            <a:pathLst>
              <a:path w="1051" h="436">
                <a:moveTo>
                  <a:pt x="0" y="0"/>
                </a:moveTo>
                <a:cubicBezTo>
                  <a:pt x="76" y="111"/>
                  <a:pt x="152" y="223"/>
                  <a:pt x="327" y="296"/>
                </a:cubicBezTo>
                <a:cubicBezTo>
                  <a:pt x="502" y="369"/>
                  <a:pt x="776" y="402"/>
                  <a:pt x="1051" y="43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91360" y="3298680"/>
            <a:ext cx="828720" cy="951120"/>
          </a:xfrm>
          <a:custGeom>
            <a:avLst/>
            <a:gdLst/>
            <a:ahLst/>
            <a:rect l="l" t="t" r="r" b="b"/>
            <a:pathLst>
              <a:path w="491" h="615">
                <a:moveTo>
                  <a:pt x="491" y="0"/>
                </a:moveTo>
                <a:cubicBezTo>
                  <a:pt x="442" y="202"/>
                  <a:pt x="394" y="404"/>
                  <a:pt x="312" y="506"/>
                </a:cubicBezTo>
                <a:cubicBezTo>
                  <a:pt x="230" y="608"/>
                  <a:pt x="52" y="597"/>
                  <a:pt x="0" y="61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60920" y="3311640"/>
            <a:ext cx="841320" cy="296640"/>
          </a:xfrm>
          <a:custGeom>
            <a:avLst/>
            <a:gdLst/>
            <a:ahLst/>
            <a:rect l="l" t="t" r="r" b="b"/>
            <a:pathLst>
              <a:path w="491" h="187">
                <a:moveTo>
                  <a:pt x="0" y="0"/>
                </a:moveTo>
                <a:cubicBezTo>
                  <a:pt x="41" y="58"/>
                  <a:pt x="82" y="117"/>
                  <a:pt x="164" y="148"/>
                </a:cubicBezTo>
                <a:cubicBezTo>
                  <a:pt x="246" y="179"/>
                  <a:pt x="368" y="183"/>
                  <a:pt x="491" y="187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38880" y="3114720"/>
            <a:ext cx="1397160" cy="515880"/>
          </a:xfrm>
          <a:custGeom>
            <a:avLst/>
            <a:gdLst/>
            <a:ahLst/>
            <a:rect l="l" t="t" r="r" b="b"/>
            <a:pathLst>
              <a:path w="880" h="325">
                <a:moveTo>
                  <a:pt x="880" y="0"/>
                </a:moveTo>
                <a:cubicBezTo>
                  <a:pt x="739" y="109"/>
                  <a:pt x="599" y="219"/>
                  <a:pt x="452" y="272"/>
                </a:cubicBezTo>
                <a:cubicBezTo>
                  <a:pt x="305" y="325"/>
                  <a:pt x="152" y="322"/>
                  <a:pt x="0" y="319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59400" y="2192400"/>
            <a:ext cx="1320840" cy="414360"/>
          </a:xfrm>
          <a:custGeom>
            <a:avLst/>
            <a:gdLst/>
            <a:ahLst/>
            <a:rect l="l" t="t" r="r" b="b"/>
            <a:pathLst>
              <a:path w="856" h="261">
                <a:moveTo>
                  <a:pt x="0" y="261"/>
                </a:moveTo>
                <a:cubicBezTo>
                  <a:pt x="174" y="173"/>
                  <a:pt x="348" y="86"/>
                  <a:pt x="491" y="43"/>
                </a:cubicBezTo>
                <a:cubicBezTo>
                  <a:pt x="634" y="0"/>
                  <a:pt x="745" y="2"/>
                  <a:pt x="856" y="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24764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75320" y="2701800"/>
            <a:ext cx="10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DA76-955F-4E8E-80A3-940D2C57BC9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SimSu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” Model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with Meeting Schedu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6019920"/>
            <a:ext cx="10861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428280" y="2286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523224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05120" y="2895480"/>
            <a:ext cx="7596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048120"/>
            <a:ext cx="3049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838080" y="2743200"/>
            <a:ext cx="60984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19320" y="281952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38280" y="2743200"/>
            <a:ext cx="53352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2362320" y="447048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0400" y="4470480"/>
            <a:ext cx="0" cy="685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90920" y="4470480"/>
            <a:ext cx="22860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8120" y="4622760"/>
            <a:ext cx="3045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50040" y="957240"/>
            <a:ext cx="3744720" cy="5715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781680" y="18288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2590920"/>
            <a:ext cx="990720" cy="507960"/>
          </a:xfrm>
          <a:prstGeom prst="hexagon">
            <a:avLst>
              <a:gd name="adj" fmla="val 25689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10280" y="37339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3600" y="4724280"/>
            <a:ext cx="1219320" cy="914400"/>
          </a:xfrm>
          <a:prstGeom prst="hexagon">
            <a:avLst>
              <a:gd name="adj" fmla="val 3333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 Using Schedu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400800" y="6095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7986240" y="2236680"/>
            <a:ext cx="700200" cy="355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8059680" y="2211120"/>
            <a:ext cx="92160" cy="153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848720" y="3100320"/>
            <a:ext cx="711000" cy="633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763120" y="3098880"/>
            <a:ext cx="0" cy="635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94840" y="3174840"/>
            <a:ext cx="7596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686800" y="32004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5638680"/>
            <a:ext cx="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03840" y="48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54600" y="427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69436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54864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50840" y="62136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436360" y="4427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160" y="917640"/>
            <a:ext cx="3504960" cy="2819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880" y="609480"/>
            <a:ext cx="1073160" cy="876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3880" y="1066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9528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2971800"/>
            <a:ext cx="1219320" cy="660240"/>
          </a:xfrm>
          <a:prstGeom prst="hexagon">
            <a:avLst>
              <a:gd name="adj" fmla="val 2432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Let Scheduler Schedul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5000" y="24382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5105520"/>
            <a:ext cx="1218960" cy="914400"/>
          </a:xfrm>
          <a:prstGeom prst="hexagon">
            <a:avLst>
              <a:gd name="adj" fmla="val 1755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Talking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321600" y="2133360"/>
            <a:ext cx="510840" cy="291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80160" y="2119320"/>
            <a:ext cx="101520" cy="166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518240" y="2322000"/>
            <a:ext cx="1800" cy="560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064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6858000" y="4229280"/>
            <a:ext cx="496800" cy="495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80160" y="4216320"/>
            <a:ext cx="344520" cy="889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51600" y="4648320"/>
            <a:ext cx="76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15200" y="48006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3860640"/>
            <a:ext cx="2514600" cy="3048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00200" y="49276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 Agreeable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33720" y="5460840"/>
            <a:ext cx="1295280" cy="508320"/>
          </a:xfrm>
          <a:prstGeom prst="hexagon">
            <a:avLst>
              <a:gd name="adj" fmla="val 33562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828800" y="60199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able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416556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05320" y="34290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7080" y="4267080"/>
            <a:ext cx="1067040" cy="507960"/>
          </a:xfrm>
          <a:prstGeom prst="hexagon">
            <a:avLst>
              <a:gd name="adj" fmla="val 2766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3809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028880" y="1447560"/>
            <a:ext cx="571320" cy="252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981080" y="1599840"/>
            <a:ext cx="0" cy="304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90920" y="1447920"/>
            <a:ext cx="457200" cy="380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218960" y="2387520"/>
            <a:ext cx="585720" cy="432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33640" y="2400480"/>
            <a:ext cx="749160" cy="545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55680" y="2514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74240" y="220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5146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978200" y="4647960"/>
            <a:ext cx="536400" cy="253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819520" y="4673160"/>
            <a:ext cx="1440" cy="787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200040" y="469872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98600" y="4660920"/>
            <a:ext cx="11448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47750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223800" y="4699080"/>
            <a:ext cx="10332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78120" y="5410080"/>
            <a:ext cx="203040" cy="6112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885480" y="61722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4927680"/>
            <a:ext cx="914400" cy="507960"/>
          </a:xfrm>
          <a:prstGeom prst="hexagon">
            <a:avLst>
              <a:gd name="adj" fmla="val 23710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391920" y="3173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rot="20244000">
            <a:off x="4023720" y="4503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7113800">
            <a:off x="3676680" y="40953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rot="18917400">
            <a:off x="1371240" y="34290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05120" y="16765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705720" y="57913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504600" y="9399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rot="1137600">
            <a:off x="5561640" y="12193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510800">
            <a:off x="3676680" y="554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80" y="1600200"/>
            <a:ext cx="685800" cy="53352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" y="16765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8280" y="1676520"/>
            <a:ext cx="1143000" cy="68580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0" y="182880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11200" y="1424160"/>
            <a:ext cx="74880" cy="172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614320" y="1447920"/>
            <a:ext cx="128520" cy="128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2057400"/>
            <a:ext cx="228600" cy="76212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576"/>
                </a:moveTo>
                <a:cubicBezTo>
                  <a:pt x="188" y="504"/>
                  <a:pt x="136" y="432"/>
                  <a:pt x="96" y="336"/>
                </a:cubicBezTo>
                <a:cubicBezTo>
                  <a:pt x="56" y="240"/>
                  <a:pt x="16" y="56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88920" y="2004840"/>
            <a:ext cx="1144800" cy="94320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624"/>
                </a:moveTo>
                <a:cubicBezTo>
                  <a:pt x="544" y="556"/>
                  <a:pt x="320" y="488"/>
                  <a:pt x="192" y="384"/>
                </a:cubicBezTo>
                <a:cubicBezTo>
                  <a:pt x="64" y="280"/>
                  <a:pt x="32" y="14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28800" y="2209680"/>
            <a:ext cx="1143000" cy="76212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cubicBezTo>
                  <a:pt x="148" y="424"/>
                  <a:pt x="296" y="368"/>
                  <a:pt x="432" y="288"/>
                </a:cubicBezTo>
                <a:cubicBezTo>
                  <a:pt x="568" y="208"/>
                  <a:pt x="692" y="104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5480" y="2286000"/>
            <a:ext cx="381240" cy="68580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432"/>
                </a:moveTo>
                <a:cubicBezTo>
                  <a:pt x="76" y="348"/>
                  <a:pt x="152" y="264"/>
                  <a:pt x="192" y="192"/>
                </a:cubicBezTo>
                <a:cubicBezTo>
                  <a:pt x="232" y="120"/>
                  <a:pt x="236" y="60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82040" y="4038480"/>
            <a:ext cx="104760" cy="40644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60"/>
                  <a:pt x="72" y="128"/>
                  <a:pt x="96" y="96"/>
                </a:cubicBezTo>
                <a:cubicBezTo>
                  <a:pt x="120" y="64"/>
                  <a:pt x="132" y="32"/>
                  <a:pt x="14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3046320"/>
            <a:ext cx="1069920" cy="15408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cubicBezTo>
                  <a:pt x="48" y="108"/>
                  <a:pt x="96" y="72"/>
                  <a:pt x="192" y="48"/>
                </a:cubicBezTo>
                <a:cubicBezTo>
                  <a:pt x="288" y="24"/>
                  <a:pt x="432" y="1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75280" y="3706920"/>
            <a:ext cx="231840" cy="39672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384"/>
                </a:moveTo>
                <a:cubicBezTo>
                  <a:pt x="192" y="320"/>
                  <a:pt x="96" y="256"/>
                  <a:pt x="48" y="192"/>
                </a:cubicBezTo>
                <a:cubicBezTo>
                  <a:pt x="0" y="128"/>
                  <a:pt x="0" y="64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65400" y="371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0280" y="4599000"/>
            <a:ext cx="1078200" cy="35388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192"/>
                </a:moveTo>
                <a:cubicBezTo>
                  <a:pt x="168" y="160"/>
                  <a:pt x="336" y="128"/>
                  <a:pt x="432" y="96"/>
                </a:cubicBezTo>
                <a:cubicBezTo>
                  <a:pt x="528" y="64"/>
                  <a:pt x="552" y="3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523200" y="4392720"/>
            <a:ext cx="1068120" cy="714240"/>
          </a:xfrm>
          <a:custGeom>
            <a:avLst/>
            <a:gdLst/>
            <a:ahLst/>
            <a:rect l="l" t="t" r="r" b="b"/>
            <a:pathLst>
              <a:path w="528" h="576">
                <a:moveTo>
                  <a:pt x="528" y="576"/>
                </a:moveTo>
                <a:cubicBezTo>
                  <a:pt x="452" y="504"/>
                  <a:pt x="376" y="432"/>
                  <a:pt x="288" y="336"/>
                </a:cubicBezTo>
                <a:cubicBezTo>
                  <a:pt x="200" y="240"/>
                  <a:pt x="100" y="12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5920" y="4789440"/>
            <a:ext cx="220680" cy="54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288"/>
                </a:moveTo>
                <a:cubicBezTo>
                  <a:pt x="48" y="264"/>
                  <a:pt x="96" y="240"/>
                  <a:pt x="144" y="192"/>
                </a:cubicBezTo>
                <a:cubicBezTo>
                  <a:pt x="192" y="144"/>
                  <a:pt x="240" y="72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03520" y="1066680"/>
            <a:ext cx="1523880" cy="189000"/>
          </a:xfrm>
          <a:custGeom>
            <a:avLst/>
            <a:gdLst/>
            <a:ahLst/>
            <a:rect l="l" t="t" r="r" b="b"/>
            <a:pathLst>
              <a:path w="960" h="112">
                <a:moveTo>
                  <a:pt x="0" y="112"/>
                </a:moveTo>
                <a:cubicBezTo>
                  <a:pt x="136" y="72"/>
                  <a:pt x="272" y="32"/>
                  <a:pt x="432" y="16"/>
                </a:cubicBezTo>
                <a:cubicBezTo>
                  <a:pt x="592" y="0"/>
                  <a:pt x="776" y="8"/>
                  <a:pt x="960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5520" y="1143000"/>
            <a:ext cx="1003320" cy="1295280"/>
          </a:xfrm>
          <a:custGeom>
            <a:avLst/>
            <a:gdLst/>
            <a:ahLst/>
            <a:rect l="l" t="t" r="r" b="b"/>
            <a:pathLst>
              <a:path w="632" h="816">
                <a:moveTo>
                  <a:pt x="0" y="0"/>
                </a:moveTo>
                <a:cubicBezTo>
                  <a:pt x="212" y="52"/>
                  <a:pt x="424" y="104"/>
                  <a:pt x="528" y="240"/>
                </a:cubicBezTo>
                <a:cubicBezTo>
                  <a:pt x="632" y="376"/>
                  <a:pt x="628" y="596"/>
                  <a:pt x="624" y="8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95880" y="914400"/>
            <a:ext cx="1079640" cy="1030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53120" y="12193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480" y="52322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2800" y="55134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74840" y="3325680"/>
            <a:ext cx="635040" cy="10332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6"/>
                </a:moveTo>
                <a:cubicBezTo>
                  <a:pt x="88" y="8"/>
                  <a:pt x="176" y="0"/>
                  <a:pt x="240" y="16"/>
                </a:cubicBezTo>
                <a:cubicBezTo>
                  <a:pt x="304" y="32"/>
                  <a:pt x="344" y="72"/>
                  <a:pt x="384" y="11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456000">
            <a:off x="3317760" y="3938760"/>
            <a:ext cx="619200" cy="6048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336" y="0"/>
                </a:moveTo>
                <a:cubicBezTo>
                  <a:pt x="292" y="96"/>
                  <a:pt x="248" y="192"/>
                  <a:pt x="192" y="240"/>
                </a:cubicBezTo>
                <a:cubicBezTo>
                  <a:pt x="136" y="288"/>
                  <a:pt x="68" y="288"/>
                  <a:pt x="0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95280" y="3381480"/>
            <a:ext cx="750960" cy="42840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432" y="0"/>
                </a:moveTo>
                <a:cubicBezTo>
                  <a:pt x="324" y="4"/>
                  <a:pt x="216" y="8"/>
                  <a:pt x="144" y="48"/>
                </a:cubicBezTo>
                <a:cubicBezTo>
                  <a:pt x="72" y="88"/>
                  <a:pt x="36" y="164"/>
                  <a:pt x="0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71600" y="4292640"/>
            <a:ext cx="988920" cy="25236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033600">
            <a:off x="1600200" y="4343400"/>
            <a:ext cx="22860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72000" y="4614840"/>
            <a:ext cx="657000" cy="30024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cubicBezTo>
                  <a:pt x="44" y="244"/>
                  <a:pt x="88" y="152"/>
                  <a:pt x="144" y="96"/>
                </a:cubicBezTo>
                <a:cubicBezTo>
                  <a:pt x="200" y="40"/>
                  <a:pt x="268" y="20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95960" y="4565520"/>
            <a:ext cx="814320" cy="393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cubicBezTo>
                  <a:pt x="96" y="0"/>
                  <a:pt x="192" y="0"/>
                  <a:pt x="288" y="48"/>
                </a:cubicBezTo>
                <a:cubicBezTo>
                  <a:pt x="384" y="96"/>
                  <a:pt x="480" y="192"/>
                  <a:pt x="576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01920" y="5891040"/>
            <a:ext cx="1041480" cy="43344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88" y="96"/>
                  <a:pt x="176" y="192"/>
                  <a:pt x="288" y="240"/>
                </a:cubicBezTo>
                <a:cubicBezTo>
                  <a:pt x="400" y="288"/>
                  <a:pt x="536" y="288"/>
                  <a:pt x="672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59320" y="6311880"/>
            <a:ext cx="1067040" cy="76320"/>
          </a:xfrm>
          <a:custGeom>
            <a:avLst/>
            <a:gdLst/>
            <a:ahLst/>
            <a:rect l="l" t="t" r="r" b="b"/>
            <a:pathLst>
              <a:path w="768" h="56">
                <a:moveTo>
                  <a:pt x="0" y="48"/>
                </a:moveTo>
                <a:cubicBezTo>
                  <a:pt x="176" y="52"/>
                  <a:pt x="352" y="56"/>
                  <a:pt x="480" y="48"/>
                </a:cubicBezTo>
                <a:cubicBezTo>
                  <a:pt x="608" y="40"/>
                  <a:pt x="688" y="20"/>
                  <a:pt x="76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48040" y="4662360"/>
            <a:ext cx="225360" cy="44604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0" y="80"/>
                  <a:pt x="40" y="160"/>
                  <a:pt x="48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1600">
            <a:off x="5418000" y="5649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085240" y="43848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27720" y="3084480"/>
            <a:ext cx="118116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57800" y="3200400"/>
            <a:ext cx="1504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Proposed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96240" y="2762280"/>
            <a:ext cx="120636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28195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11960" y="363204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848720" y="358128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96080" y="4343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24440" y="402732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97440" y="3986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R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53120" y="4435560"/>
            <a:ext cx="384120" cy="272880"/>
          </a:xfrm>
          <a:custGeom>
            <a:avLst/>
            <a:gdLst/>
            <a:ahLst/>
            <a:rect l="l" t="t" r="r" b="b"/>
            <a:pathLst>
              <a:path w="242" h="172">
                <a:moveTo>
                  <a:pt x="242" y="172"/>
                </a:moveTo>
                <a:cubicBezTo>
                  <a:pt x="164" y="143"/>
                  <a:pt x="87" y="115"/>
                  <a:pt x="47" y="86"/>
                </a:cubicBezTo>
                <a:cubicBezTo>
                  <a:pt x="7" y="57"/>
                  <a:pt x="3" y="28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11360" y="5437080"/>
            <a:ext cx="863640" cy="333360"/>
          </a:xfrm>
          <a:custGeom>
            <a:avLst/>
            <a:gdLst/>
            <a:ahLst/>
            <a:rect l="l" t="t" r="r" b="b"/>
            <a:pathLst>
              <a:path w="552" h="226">
                <a:moveTo>
                  <a:pt x="0" y="0"/>
                </a:moveTo>
                <a:cubicBezTo>
                  <a:pt x="62" y="67"/>
                  <a:pt x="125" y="134"/>
                  <a:pt x="217" y="172"/>
                </a:cubicBezTo>
                <a:cubicBezTo>
                  <a:pt x="309" y="210"/>
                  <a:pt x="430" y="218"/>
                  <a:pt x="552" y="22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51320" y="5807160"/>
            <a:ext cx="1247760" cy="334800"/>
          </a:xfrm>
          <a:custGeom>
            <a:avLst/>
            <a:gdLst/>
            <a:ahLst/>
            <a:rect l="l" t="t" r="r" b="b"/>
            <a:pathLst>
              <a:path w="786" h="211">
                <a:moveTo>
                  <a:pt x="0" y="0"/>
                </a:moveTo>
                <a:cubicBezTo>
                  <a:pt x="195" y="6"/>
                  <a:pt x="391" y="12"/>
                  <a:pt x="522" y="47"/>
                </a:cubicBezTo>
                <a:cubicBezTo>
                  <a:pt x="653" y="82"/>
                  <a:pt x="719" y="146"/>
                  <a:pt x="786" y="21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C317-22CA-4DA5-8196-4B568138B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velopment-World model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refers to and reasons about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" y="4191120"/>
            <a:ext cx="259092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762120"/>
            <a:ext cx="4343400" cy="243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19920" y="380988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3733920"/>
            <a:ext cx="2590920" cy="19047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3720" y="388620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57150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erational-Worl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428640" y="5035680"/>
            <a:ext cx="11430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t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4952880" y="51055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29400" y="5257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-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" y="5486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-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90720" y="28954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199680" y="2895480"/>
            <a:ext cx="60948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267080" y="2895480"/>
            <a:ext cx="144792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799880" y="2743200"/>
            <a:ext cx="289548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55080" y="9907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Rational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38720" y="617220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Dependenc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Goal-Oriented and Agent-Oriented Requirements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modelling fo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business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,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2D1-CC11-4E1B-97D6-20A0252BCA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52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 and Design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ies and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, workability, viability, believ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rance, assurance, enforce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and loop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ing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ing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ng, making tradeof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ifying, sett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qualitative reasoning </a:t>
            </a: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5638680" y="1066680"/>
            <a:ext cx="3733920" cy="21052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876920" y="4014720"/>
            <a:ext cx="4572000" cy="28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410-414C-4005-AB58-151A081C00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/Evaluation of </a:t>
            </a:r>
            <a:r>
              <a:rPr b="0" i="1" lang="en-CA" sz="4400" spc="-1" strike="noStrike">
                <a:solidFill>
                  <a:srgbClr val="333399"/>
                </a:solidFill>
                <a:latin typeface="Script MT Bold"/>
              </a:rPr>
              <a:t>i*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odels  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[Jennifer Horkoff]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219528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what extent are stakeholder goals satisfied or denied, given a particular situation or design o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85840" y="4616280"/>
            <a:ext cx="8683200" cy="744480"/>
            <a:chOff x="285840" y="4616280"/>
            <a:chExt cx="8683200" cy="74448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3312360" y="4619160"/>
              <a:ext cx="3776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2"/>
            <a:stretch/>
          </p:blipFill>
          <p:spPr>
            <a:xfrm>
              <a:off x="6135480" y="4617720"/>
              <a:ext cx="494640" cy="40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3"/>
            <a:stretch/>
          </p:blipFill>
          <p:spPr>
            <a:xfrm>
              <a:off x="3947400" y="4622400"/>
              <a:ext cx="38412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"/>
            <a:stretch/>
          </p:blipFill>
          <p:spPr>
            <a:xfrm>
              <a:off x="4723920" y="4616280"/>
              <a:ext cx="41364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"/>
            <a:stretch/>
          </p:blipFill>
          <p:spPr>
            <a:xfrm>
              <a:off x="5500440" y="4627440"/>
              <a:ext cx="37764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6"/>
            <a:stretch/>
          </p:blipFill>
          <p:spPr>
            <a:xfrm>
              <a:off x="2968560" y="5091480"/>
              <a:ext cx="3811320" cy="2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 txBox="1"/>
            <p:nvPr/>
          </p:nvSpPr>
          <p:spPr>
            <a:xfrm>
              <a:off x="285840" y="4691160"/>
              <a:ext cx="261288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ull Satisfaction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6993000" y="4691160"/>
              <a:ext cx="197604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ull Denia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5F9-B0F2-437F-928E-FFE8BAE473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24000" y="18432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2153880"/>
            <a:ext cx="340056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based on an analysis ques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pplication implements </a:t>
            </a: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Restrict Structure of Passw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no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sk for Secret Ques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at effect will this have on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ttract Us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Initial Labels reflecting Analysis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716436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00720" y="5589720"/>
            <a:ext cx="936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16360" y="5516640"/>
            <a:ext cx="1081080" cy="865080"/>
          </a:xfrm>
          <a:prstGeom prst="ellips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80000" y="3213000"/>
            <a:ext cx="863640" cy="7207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73876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876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2B5-F9F1-4F24-A749-63F8B5A283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8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>
            <a:off x="466560" y="3024360"/>
            <a:ext cx="295308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tract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satisf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tially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28800" y="544320"/>
            <a:ext cx="61200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v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e on the above steps until all labels have been propag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709128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128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66568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6568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"/>
          <p:cNvGraphicFramePr/>
          <p:nvPr/>
        </p:nvGraphicFramePr>
        <p:xfrm>
          <a:off x="4932360" y="4437000"/>
          <a:ext cx="460440" cy="46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4437000"/>
                    <a:ext cx="460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7524720" y="4432320"/>
          <a:ext cx="503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4432320"/>
                    <a:ext cx="503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539640" y="2997360"/>
            <a:ext cx="295272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trict Structure of 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k for Secret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6299280" y="3284640"/>
          <a:ext cx="40932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99280" y="3284640"/>
                    <a:ext cx="4093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563840" y="4680000"/>
          <a:ext cx="34416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63840" y="4680000"/>
                    <a:ext cx="344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2427120" y="5376960"/>
          <a:ext cx="344520" cy="38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7120" y="5376960"/>
                    <a:ext cx="3445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403280" y="4440240"/>
          <a:ext cx="3445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03280" y="4440240"/>
                    <a:ext cx="344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403280" y="5151600"/>
          <a:ext cx="317520" cy="320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03280" y="5151600"/>
                    <a:ext cx="3175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6877080" y="436572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08720" y="328464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6DD-B255-4E3A-8192-112C6C26FA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81080" y="1600200"/>
            <a:ext cx="663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From Business Models to Service-Oriented Design:</a:t>
            </a:r>
            <a:br>
              <a:rPr sz="4200"/>
            </a:b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 Reference Catalog Approach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2057040" y="39621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3962520"/>
            <a:ext cx="3047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ulty of Information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958680" y="1447920"/>
            <a:ext cx="793800" cy="12189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506160" y="5713560"/>
            <a:ext cx="655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 and Yu, E., "From Business Models to Service-Oriented Design: A Reference Catalog Approach", ER 2007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Int. Conf. on Conceptual Modeling, LNCS 4801, Springer, 87-101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, "From Business Models to Service-Oriented Design: A Reference Catalog Approach"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M.Sc. thesis, Dept. of Comp. Sci., Univ. of Toronto, 2006.</a:t>
            </a:r>
            <a:r>
              <a:rPr b="0" lang="en-CA" sz="10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Services at the Business level…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565200" y="1371600"/>
            <a:ext cx="1552680" cy="1876320"/>
          </a:xfrm>
          <a:prstGeom prst="rect">
            <a:avLst/>
          </a:prstGeom>
          <a:ln w="0">
            <a:noFill/>
          </a:ln>
        </p:spPr>
      </p:pic>
      <p:pic>
        <p:nvPicPr>
          <p:cNvPr id="987" name="MMj02836860000[1]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1833480" cy="10810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6873840" y="4114800"/>
            <a:ext cx="1812960" cy="111456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5"/>
          <a:stretch/>
        </p:blipFill>
        <p:spPr>
          <a:xfrm>
            <a:off x="3200400" y="1066680"/>
            <a:ext cx="1428840" cy="1225800"/>
          </a:xfrm>
          <a:prstGeom prst="rect">
            <a:avLst/>
          </a:prstGeom>
          <a:ln w="0">
            <a:noFill/>
          </a:ln>
        </p:spPr>
      </p:pic>
      <p:pic>
        <p:nvPicPr>
          <p:cNvPr id="991" name="MMj02841620000[1]" descr=""/>
          <p:cNvPicPr/>
          <p:nvPr/>
        </p:nvPicPr>
        <p:blipFill>
          <a:blip r:embed="rId6"/>
          <a:stretch/>
        </p:blipFill>
        <p:spPr>
          <a:xfrm>
            <a:off x="3219480" y="4610160"/>
            <a:ext cx="819000" cy="9525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7"/>
          <a:stretch/>
        </p:blipFill>
        <p:spPr>
          <a:xfrm>
            <a:off x="1066680" y="4114800"/>
            <a:ext cx="1581120" cy="164772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231120" y="3048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75240" y="5729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h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31880" y="2286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61240" y="19810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134120" y="51814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3840" y="3824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onso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8"/>
          <a:stretch/>
        </p:blipFill>
        <p:spPr>
          <a:xfrm>
            <a:off x="43434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9"/>
          <a:stretch/>
        </p:blipFill>
        <p:spPr>
          <a:xfrm>
            <a:off x="2286000" y="2133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 flipV="1">
            <a:off x="2209680" y="1904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0"/>
          <a:stretch/>
        </p:blipFill>
        <p:spPr>
          <a:xfrm>
            <a:off x="4724280" y="4572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4492080" y="54100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76201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1"/>
          <a:stretch/>
        </p:blipFill>
        <p:spPr>
          <a:xfrm>
            <a:off x="6781680" y="2971800"/>
            <a:ext cx="709560" cy="87624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2806560" y="5573880"/>
            <a:ext cx="160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nline Shopp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16160" y="1512720"/>
            <a:ext cx="94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64160" y="312408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48680" y="1143000"/>
            <a:ext cx="21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</a:rPr>
              <a:t>Ordering/Deliver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97960" y="51166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Deliv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09320" y="28954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5562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24280" y="1523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556236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486040" y="22860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57400" y="3809880"/>
            <a:ext cx="1600200" cy="533520"/>
          </a:xfrm>
          <a:prstGeom prst="cloudCallout">
            <a:avLst>
              <a:gd name="adj1" fmla="val -30953"/>
              <a:gd name="adj2" fmla="val 7856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00200" y="990720"/>
            <a:ext cx="914400" cy="609480"/>
          </a:xfrm>
          <a:prstGeom prst="cloudCallout">
            <a:avLst>
              <a:gd name="adj1" fmla="val -55555"/>
              <a:gd name="adj2" fmla="val 3906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w Pr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-54949"/>
              <a:gd name="adj2" fmla="val 8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60416"/>
              <a:gd name="adj2" fmla="val 684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67280" y="2286000"/>
            <a:ext cx="1219320" cy="685800"/>
          </a:xfrm>
          <a:prstGeom prst="cloudCallout">
            <a:avLst>
              <a:gd name="adj1" fmla="val 25388"/>
              <a:gd name="adj2" fmla="val -958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tai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9E8E-8E7A-4B06-A1AC-8B63397E0F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Motivatio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-Oriented Architecture (SO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business/IT al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usiness needs properly captur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increase of design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hoose among th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? What are the motivations and rationales behind the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68A51-755F-4EB4-8AFA-64AFA08870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as a Business Modeling Techniqu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16676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value 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341400" y="548640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tegic Rat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)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09E86-73AA-4F87-B358-63B6AA1A84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Are all stakeholders goals’ achieved? </a:t>
            </a:r>
            <a:br>
              <a:rPr sz="3800"/>
            </a:br>
            <a:r>
              <a:rPr b="0" lang="en-US" sz="2200" spc="-1" strike="noStrike">
                <a:solidFill>
                  <a:srgbClr val="003399"/>
                </a:solidFill>
                <a:latin typeface="Garamond"/>
              </a:rPr>
              <a:t>Evaluation of goal model </a:t>
            </a:r>
            <a:r>
              <a:rPr b="0" lang="en-US" sz="1600" spc="-1" strike="noStrike">
                <a:solidFill>
                  <a:srgbClr val="003399"/>
                </a:solidFill>
                <a:latin typeface="Garamond"/>
              </a:rPr>
              <a:t>[Horkoff06]</a:t>
            </a:r>
            <a:endParaRPr b="0" lang="en-US" sz="1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rcRect l="0" t="0" r="2665" b="0"/>
          <a:stretch/>
        </p:blipFill>
        <p:spPr>
          <a:xfrm>
            <a:off x="776160" y="1600200"/>
            <a:ext cx="7591680" cy="45306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539640" y="6165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R model refined from business model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AC08-E4E1-46A1-8736-5A979BF716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’s Analytical and Reasoning Capabilitie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de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-ends reas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s exploration and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sibilit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AD14-EDFD-420F-9D03-01429C89CF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e need deeper understanding than in traditional model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626436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677880" y="2676600"/>
            <a:ext cx="6727680" cy="3470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597480" y="238608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Automobile insurance claims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6095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A32-16FB-4D60-8E09-9B8F4BB878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Strategic Reasoning About Business Models:</a:t>
            </a:r>
            <a:br>
              <a:rPr sz="2600"/>
            </a:b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A Conceptual Modeling Approach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4922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Reza Samav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ric Y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odoros Topalogl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"/>
          <p:cNvSpPr/>
          <p:nvPr/>
        </p:nvSpPr>
        <p:spPr>
          <a:xfrm>
            <a:off x="301680" y="5510160"/>
            <a:ext cx="8109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Strategic reasoning about business models: a conceptual modeling approach", Information Systems and E-Business Management. Springer, 2008. DOI:10.1007/s10257-008-0079-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Applying Strategic Business Modeling to Understand Disruptive Innovation", Proc. Int. Conf. on E-Commerce, Innsbruck. Austria. August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"Strategic reasoning about business models: a conceptual modeling approach", M.Eng. Project. Dept of Mech. &amp; Ind. Eng., Univ. of Toronto, 20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63400" y="3045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at is missing in this business model representation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rcRect l="3480" t="9375" r="13024" b="0"/>
          <a:stretch/>
        </p:blipFill>
        <p:spPr>
          <a:xfrm>
            <a:off x="628560" y="1494000"/>
            <a:ext cx="7694640" cy="51368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6588000" y="4581360"/>
            <a:ext cx="2222640" cy="1611360"/>
          </a:xfrm>
          <a:prstGeom prst="roundRect">
            <a:avLst>
              <a:gd name="adj" fmla="val 16667"/>
            </a:avLst>
          </a:prstGeom>
          <a:solidFill>
            <a:srgbClr val="d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ir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33760" y="5370480"/>
            <a:ext cx="1927080" cy="10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83960" y="6583320"/>
            <a:ext cx="88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taken from: Weill, P. and M. R. Vitale (2001), Place to space: Migrating to eBusiness Models. Boston: Harvard Business School Pr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FDC72-C58C-48C6-9671-2DE9723401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Us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*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to model strategic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385920" y="1967040"/>
            <a:ext cx="8442000" cy="37796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86040" y="2333520"/>
            <a:ext cx="1085760" cy="579600"/>
          </a:xfrm>
          <a:prstGeom prst="cloudCallout">
            <a:avLst>
              <a:gd name="adj1" fmla="val -56726"/>
              <a:gd name="adj2" fmla="val 110000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wan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24200" y="2049480"/>
            <a:ext cx="974880" cy="609480"/>
          </a:xfrm>
          <a:prstGeom prst="cloudCallout">
            <a:avLst>
              <a:gd name="adj1" fmla="val 95601"/>
              <a:gd name="adj2" fmla="val 86458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ca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5920" y="3352680"/>
            <a:ext cx="916200" cy="81144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11440" y="4813200"/>
            <a:ext cx="1057320" cy="87336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03520" y="3795840"/>
            <a:ext cx="1036440" cy="923760"/>
          </a:xfrm>
          <a:prstGeom prst="ellipse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458120" y="4167360"/>
            <a:ext cx="1006560" cy="923760"/>
          </a:xfrm>
          <a:prstGeom prst="ellipse">
            <a:avLst/>
          </a:prstGeom>
          <a:solidFill>
            <a:srgbClr val="ff99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Soft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502000" y="5121000"/>
            <a:ext cx="183960" cy="509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2692440" y="3971880"/>
            <a:ext cx="1703520" cy="159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6205680" y="4539960"/>
            <a:ext cx="682560" cy="1173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799160" y="3099960"/>
            <a:ext cx="129672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269040" y="4902120"/>
            <a:ext cx="76032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9360" y="54309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75680" y="58514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ntribu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26720" y="52484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Means-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398920" y="4546440"/>
            <a:ext cx="941400" cy="84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97160" y="2914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6F004-FD28-4C73-85A4-789997DCCC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971640" y="2060280"/>
            <a:ext cx="5806440" cy="4215960"/>
            <a:chOff x="971640" y="2060280"/>
            <a:chExt cx="5806440" cy="4215960"/>
          </a:xfrm>
        </p:grpSpPr>
        <p:grpSp>
          <p:nvGrpSpPr>
            <p:cNvPr id="1061" name=""/>
            <p:cNvGrpSpPr/>
            <p:nvPr/>
          </p:nvGrpSpPr>
          <p:grpSpPr>
            <a:xfrm>
              <a:off x="971640" y="4095720"/>
              <a:ext cx="5713200" cy="2180520"/>
              <a:chOff x="971640" y="4095720"/>
              <a:chExt cx="5713200" cy="2180520"/>
            </a:xfrm>
          </p:grpSpPr>
          <p:sp>
            <p:nvSpPr>
              <p:cNvPr id="1062" name=""/>
              <p:cNvSpPr/>
              <p:nvPr/>
            </p:nvSpPr>
            <p:spPr>
              <a:xfrm>
                <a:off x="1832040" y="4269960"/>
                <a:ext cx="4852800" cy="2006280"/>
              </a:xfrm>
              <a:prstGeom prst="parallelogram">
                <a:avLst>
                  <a:gd name="adj" fmla="val 60470"/>
                </a:avLst>
              </a:prstGeom>
              <a:solidFill>
                <a:srgbClr val="e5f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4880" y="4357080"/>
                <a:ext cx="2582280" cy="18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"/>
              <p:cNvSpPr/>
              <p:nvPr/>
            </p:nvSpPr>
            <p:spPr>
              <a:xfrm>
                <a:off x="971640" y="4095720"/>
                <a:ext cx="343800" cy="209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perational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982080" y="2060280"/>
              <a:ext cx="5796000" cy="2088360"/>
              <a:chOff x="982080" y="2060280"/>
              <a:chExt cx="5796000" cy="2088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2100600" y="2350800"/>
                <a:ext cx="4648320" cy="1569960"/>
              </a:xfrm>
              <a:prstGeom prst="parallelogram">
                <a:avLst>
                  <a:gd name="adj" fmla="val 74020"/>
                </a:avLst>
              </a:prstGeom>
              <a:gradFill rotWithShape="0">
                <a:gsLst>
                  <a:gs pos="0">
                    <a:srgbClr val="ffffe5"/>
                  </a:gs>
                  <a:gs pos="100000">
                    <a:srgbClr val="d1d1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7" name="" descr=""/>
              <p:cNvPicPr/>
              <p:nvPr/>
            </p:nvPicPr>
            <p:blipFill>
              <a:blip r:embed="rId2"/>
              <a:srcRect l="0" t="0" r="0" b="20131"/>
              <a:stretch/>
            </p:blipFill>
            <p:spPr>
              <a:xfrm rot="21474600">
                <a:off x="3230280" y="2437920"/>
                <a:ext cx="3009600" cy="12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"/>
              <p:cNvSpPr/>
              <p:nvPr/>
            </p:nvSpPr>
            <p:spPr>
              <a:xfrm>
                <a:off x="982080" y="2263320"/>
                <a:ext cx="343800" cy="1831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rategy 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469800">
                <a:off x="1943280" y="2761920"/>
                <a:ext cx="2024280" cy="503640"/>
              </a:xfrm>
              <a:prstGeom prst="rightArrow">
                <a:avLst>
                  <a:gd name="adj1" fmla="val 50000"/>
                  <a:gd name="adj2" fmla="val 100482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ibution/Cor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7618200">
                <a:off x="4955760" y="2936520"/>
                <a:ext cx="2024640" cy="503640"/>
              </a:xfrm>
              <a:prstGeom prst="rightArrow">
                <a:avLst>
                  <a:gd name="adj1" fmla="val 50000"/>
                  <a:gd name="adj2" fmla="val 100500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compos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2714400" y="3659400"/>
              <a:ext cx="1032840" cy="104688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261720 h 1046880"/>
                <a:gd name="textAreaBottom" fmla="*/ 785160 h 10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y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rategic Business Model Ontolog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"/>
          <p:cNvSpPr/>
          <p:nvPr/>
        </p:nvSpPr>
        <p:spPr>
          <a:xfrm>
            <a:off x="6835680" y="4878360"/>
            <a:ext cx="53820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826320" y="2759040"/>
            <a:ext cx="119232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 + N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00B98-4194-4FA8-9394-681202F781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593640" y="5330880"/>
            <a:ext cx="8550360" cy="570600"/>
            <a:chOff x="593640" y="5330880"/>
            <a:chExt cx="8550360" cy="570600"/>
          </a:xfrm>
        </p:grpSpPr>
        <p:sp>
          <p:nvSpPr>
            <p:cNvPr id="1076" name=""/>
            <p:cNvSpPr/>
            <p:nvPr/>
          </p:nvSpPr>
          <p:spPr>
            <a:xfrm>
              <a:off x="593640" y="5495760"/>
              <a:ext cx="8534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0804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79440" y="5495760"/>
              <a:ext cx="39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18120" y="549576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18320" y="5576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589104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4672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80032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457200" y="38005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266688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0480" y="3778200"/>
            <a:ext cx="3009600" cy="1297080"/>
            <a:chOff x="60480" y="3778200"/>
            <a:chExt cx="3009600" cy="1297080"/>
          </a:xfrm>
        </p:grpSpPr>
        <p:sp>
          <p:nvSpPr>
            <p:cNvPr id="1087" name=""/>
            <p:cNvSpPr/>
            <p:nvPr/>
          </p:nvSpPr>
          <p:spPr>
            <a:xfrm>
              <a:off x="513720" y="3881880"/>
              <a:ext cx="2556360" cy="1193400"/>
            </a:xfrm>
            <a:prstGeom prst="parallelogram">
              <a:avLst>
                <a:gd name="adj" fmla="val 53552"/>
              </a:avLst>
            </a:prstGeom>
            <a:solidFill>
              <a:srgbClr val="e5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8" name="" descr=""/>
            <p:cNvPicPr/>
            <p:nvPr/>
          </p:nvPicPr>
          <p:blipFill>
            <a:blip r:embed="rId1"/>
            <a:stretch/>
          </p:blipFill>
          <p:spPr>
            <a:xfrm>
              <a:off x="1057680" y="3933720"/>
              <a:ext cx="1360080" cy="11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60480" y="3778200"/>
              <a:ext cx="181080" cy="12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6600" y="2577600"/>
            <a:ext cx="3093480" cy="1220760"/>
            <a:chOff x="66600" y="2577600"/>
            <a:chExt cx="3093480" cy="1220760"/>
          </a:xfrm>
        </p:grpSpPr>
        <p:sp>
          <p:nvSpPr>
            <p:cNvPr id="1091" name=""/>
            <p:cNvSpPr/>
            <p:nvPr/>
          </p:nvSpPr>
          <p:spPr>
            <a:xfrm>
              <a:off x="655560" y="2739600"/>
              <a:ext cx="2447640" cy="933840"/>
            </a:xfrm>
            <a:prstGeom prst="parallelogram">
              <a:avLst>
                <a:gd name="adj" fmla="val 65526"/>
              </a:avLst>
            </a:prstGeom>
            <a:gradFill rotWithShape="0">
              <a:gsLst>
                <a:gs pos="0">
                  <a:srgbClr val="ffffe5"/>
                </a:gs>
                <a:gs pos="100000">
                  <a:srgbClr val="d1d1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2"/>
            <a:srcRect l="0" t="0" r="0" b="20131"/>
            <a:stretch/>
          </p:blipFill>
          <p:spPr>
            <a:xfrm rot="21474600">
              <a:off x="1250640" y="2791440"/>
              <a:ext cx="1584720" cy="7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600" y="2687760"/>
              <a:ext cx="181080" cy="1089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 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8469800">
              <a:off x="503640" y="3001320"/>
              <a:ext cx="1203840" cy="265320"/>
            </a:xfrm>
            <a:prstGeom prst="rightArrow">
              <a:avLst>
                <a:gd name="adj1" fmla="val 50000"/>
                <a:gd name="adj2" fmla="val 113433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7618200">
              <a:off x="2089800" y="3105000"/>
              <a:ext cx="1204200" cy="265320"/>
            </a:xfrm>
            <a:prstGeom prst="rightArrow">
              <a:avLst>
                <a:gd name="adj1" fmla="val 50000"/>
                <a:gd name="adj2" fmla="val 1134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7760" y="351792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25960" y="3903840"/>
            <a:ext cx="2555640" cy="1193760"/>
          </a:xfrm>
          <a:prstGeom prst="parallelogram">
            <a:avLst>
              <a:gd name="adj" fmla="val 53521"/>
            </a:avLst>
          </a:prstGeom>
          <a:solidFill>
            <a:srgbClr val="e5f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3768840" y="395604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3367080" y="2762280"/>
            <a:ext cx="2448000" cy="933480"/>
          </a:xfrm>
          <a:prstGeom prst="parallelogram">
            <a:avLst>
              <a:gd name="adj" fmla="val 65561"/>
            </a:avLst>
          </a:prstGeom>
          <a:gradFill rotWithShape="0">
            <a:gsLst>
              <a:gs pos="0">
                <a:srgbClr val="ffffe5"/>
              </a:gs>
              <a:gs pos="100000">
                <a:srgbClr val="d1d1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4"/>
          <a:srcRect l="0" t="0" r="0" b="20131"/>
          <a:stretch/>
        </p:blipFill>
        <p:spPr>
          <a:xfrm rot="21474600">
            <a:off x="3962520" y="281304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 rot="18469800">
            <a:off x="3214440" y="3023640"/>
            <a:ext cx="1204920" cy="264960"/>
          </a:xfrm>
          <a:prstGeom prst="rightArrow">
            <a:avLst>
              <a:gd name="adj1" fmla="val 50000"/>
              <a:gd name="adj2" fmla="val 11368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7618200">
            <a:off x="4800960" y="3126240"/>
            <a:ext cx="1204920" cy="266760"/>
          </a:xfrm>
          <a:prstGeom prst="rightArrow">
            <a:avLst>
              <a:gd name="adj1" fmla="val 50000"/>
              <a:gd name="adj2" fmla="val 112922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89280" y="354024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49720" y="2575080"/>
            <a:ext cx="2743200" cy="2931840"/>
          </a:xfrm>
          <a:prstGeom prst="rect">
            <a:avLst/>
          </a:prstGeom>
          <a:blipFill rotWithShape="0">
            <a:blip r:embed="rId5">
              <a:alphaModFix amt="2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29360" y="3884760"/>
            <a:ext cx="2556000" cy="1193760"/>
          </a:xfrm>
          <a:prstGeom prst="parallelogram">
            <a:avLst>
              <a:gd name="adj" fmla="val 53528"/>
            </a:avLst>
          </a:prstGeom>
          <a:solidFill>
            <a:srgbClr val="a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6"/>
          <a:stretch/>
        </p:blipFill>
        <p:spPr>
          <a:xfrm>
            <a:off x="6672240" y="393696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6270480" y="2743200"/>
            <a:ext cx="2448000" cy="933480"/>
          </a:xfrm>
          <a:prstGeom prst="parallelogram">
            <a:avLst>
              <a:gd name="adj" fmla="val 65561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7"/>
          <a:srcRect l="0" t="0" r="0" b="20131"/>
          <a:stretch/>
        </p:blipFill>
        <p:spPr>
          <a:xfrm rot="21474600">
            <a:off x="6865920" y="279396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 rot="18469800">
            <a:off x="6117840" y="3004560"/>
            <a:ext cx="1204920" cy="265320"/>
          </a:xfrm>
          <a:prstGeom prst="rightArrow">
            <a:avLst>
              <a:gd name="adj1" fmla="val 50000"/>
              <a:gd name="adj2" fmla="val 113535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7618200">
            <a:off x="7704720" y="3107520"/>
            <a:ext cx="1204920" cy="266400"/>
          </a:xfrm>
          <a:prstGeom prst="rightArrow">
            <a:avLst>
              <a:gd name="adj1" fmla="val 50000"/>
              <a:gd name="adj2" fmla="val 113074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93040" y="3521160"/>
            <a:ext cx="544320" cy="623880"/>
          </a:xfrm>
          <a:custGeom>
            <a:avLst/>
            <a:gdLst>
              <a:gd name="textAreaLeft" fmla="*/ 0 w 544320"/>
              <a:gd name="textAreaRight" fmla="*/ 544680 w 54432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27280" y="2968560"/>
            <a:ext cx="1792440" cy="15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013200" y="1679400"/>
            <a:ext cx="1066680" cy="685800"/>
          </a:xfrm>
          <a:prstGeom prst="wedgeRoundRectCallout">
            <a:avLst>
              <a:gd name="adj1" fmla="val -33333"/>
              <a:gd name="adj2" fmla="val 127777"/>
              <a:gd name="adj3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lements from old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340240" y="3014640"/>
            <a:ext cx="1866960" cy="193680"/>
            <a:chOff x="5340240" y="3014640"/>
            <a:chExt cx="1866960" cy="193680"/>
          </a:xfrm>
        </p:grpSpPr>
        <p:sp>
          <p:nvSpPr>
            <p:cNvPr id="1115" name=""/>
            <p:cNvSpPr/>
            <p:nvPr/>
          </p:nvSpPr>
          <p:spPr>
            <a:xfrm>
              <a:off x="5340240" y="3014640"/>
              <a:ext cx="1866960" cy="18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6200000">
              <a:off x="64090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6200000">
              <a:off x="63352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84200" y="5975280"/>
            <a:ext cx="223668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as-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20880" y="5975280"/>
            <a:ext cx="35053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1f1f1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itional states of 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49880" y="5975280"/>
            <a:ext cx="225756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to-b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 Integrated Framew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58209-090A-4F36-A0E9-86EE406548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ase Stud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elco is a telecommunication company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rriving cellular voice services has been a technological disruptive innovation for wired voice provider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Despite the mobility of cellular phones,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quality of early wireless voice services was relatively poor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ttery life for cellular units was inadequate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ones were relatively expensiv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circumstances caused co-option in wireless and wired technolog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other strategic moves either incumbents or new entrants could have been made in the wireless case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82160" y="6583320"/>
            <a:ext cx="87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ase study from: Christensen, C. (2004), Seeing What’s Next: Using the theories of innovation to predict industry change. HBS Pres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52B3BD-24DD-4CD5-BF1B-3F990CDF14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0" y="0"/>
            <a:ext cx="5310000" cy="550800"/>
            <a:chOff x="0" y="0"/>
            <a:chExt cx="5310000" cy="550800"/>
          </a:xfrm>
        </p:grpSpPr>
        <p:sp>
          <p:nvSpPr>
            <p:cNvPr id="1126" name=""/>
            <p:cNvSpPr/>
            <p:nvPr/>
          </p:nvSpPr>
          <p:spPr>
            <a:xfrm>
              <a:off x="0" y="0"/>
              <a:ext cx="531000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28000" y="3240"/>
              <a:ext cx="87840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80" y="299880"/>
              <a:ext cx="87840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869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as-is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1332000" y="1238400"/>
          <a:ext cx="62434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38400"/>
                    <a:ext cx="62434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9FFB9-91F2-4E77-827F-35A4A8239F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0" y="0"/>
            <a:ext cx="4913280" cy="550800"/>
            <a:chOff x="0" y="0"/>
            <a:chExt cx="4913280" cy="550800"/>
          </a:xfrm>
        </p:grpSpPr>
        <p:sp>
          <p:nvSpPr>
            <p:cNvPr id="1134" name=""/>
            <p:cNvSpPr/>
            <p:nvPr/>
          </p:nvSpPr>
          <p:spPr>
            <a:xfrm>
              <a:off x="0" y="0"/>
              <a:ext cx="49132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97160" y="3240"/>
              <a:ext cx="8128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20" y="299880"/>
              <a:ext cx="8128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75760" y="0"/>
            <a:ext cx="43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Signals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19240" y="1235160"/>
          <a:ext cx="89024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235160"/>
                    <a:ext cx="89024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1" name=""/>
          <p:cNvSpPr/>
          <p:nvPr/>
        </p:nvSpPr>
        <p:spPr>
          <a:xfrm rot="347400">
            <a:off x="1322280" y="3808440"/>
            <a:ext cx="544680" cy="5857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347400">
            <a:off x="1322280" y="2610000"/>
            <a:ext cx="55584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347400">
            <a:off x="1312920" y="4721400"/>
            <a:ext cx="55728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906560" y="2538000"/>
            <a:ext cx="1041480" cy="127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793880" y="3719520"/>
            <a:ext cx="692280" cy="155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68320" y="5230800"/>
            <a:ext cx="1246320" cy="22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87400" y="3186000"/>
            <a:ext cx="668520" cy="182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79C415-4D7A-4306-9B47-D6D11775A4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68400" y="12600"/>
            <a:ext cx="3968640" cy="550800"/>
            <a:chOff x="68400" y="12600"/>
            <a:chExt cx="3968640" cy="550800"/>
          </a:xfrm>
        </p:grpSpPr>
        <p:sp>
          <p:nvSpPr>
            <p:cNvPr id="1149" name=""/>
            <p:cNvSpPr/>
            <p:nvPr/>
          </p:nvSpPr>
          <p:spPr>
            <a:xfrm>
              <a:off x="68400" y="12600"/>
              <a:ext cx="396864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77880" y="15840"/>
              <a:ext cx="656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520" y="312480"/>
              <a:ext cx="656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22120" y="126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2043000" y="717480"/>
          <a:ext cx="4808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717480"/>
                    <a:ext cx="4808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DD24F-0FAE-42B9-9F71-888A1E464F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17640" y="44280"/>
            <a:ext cx="6999120" cy="550800"/>
            <a:chOff x="17640" y="44280"/>
            <a:chExt cx="6999120" cy="550800"/>
          </a:xfrm>
        </p:grpSpPr>
        <p:grpSp>
          <p:nvGrpSpPr>
            <p:cNvPr id="1158" name=""/>
            <p:cNvGrpSpPr/>
            <p:nvPr/>
          </p:nvGrpSpPr>
          <p:grpSpPr>
            <a:xfrm>
              <a:off x="17640" y="44280"/>
              <a:ext cx="5552640" cy="550800"/>
              <a:chOff x="17640" y="44280"/>
              <a:chExt cx="5552640" cy="5508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7640" y="44280"/>
                <a:ext cx="5552640" cy="550800"/>
              </a:xfrm>
              <a:prstGeom prst="roundRect">
                <a:avLst>
                  <a:gd name="adj" fmla="val 50000"/>
                </a:avLst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647960" y="47520"/>
                <a:ext cx="918360" cy="250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280" y="344160"/>
                <a:ext cx="918360" cy="2494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120600" y="96840"/>
              <a:ext cx="68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Verdana"/>
                </a:rPr>
                <a:t>Is Incumbent capable for Disruptive Innovation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5286240" y="0"/>
          <a:ext cx="385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0"/>
                    <a:ext cx="385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87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sruptive Innovation Theor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firms often retreat upmarket in the face of disruptive attack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give up their least valued customers in pursuit of higher margi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ymmetry of motiv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ruptive attacker develops skills and continues up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D5416D-6368-4ECF-9B51-B96462D2C6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1480" y="12272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deeper understanding about proces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217620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car to be repa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company wants to minimize claims p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fair appraisal of re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agent wants to maintain good customer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3429000" y="4038480"/>
            <a:ext cx="5105520" cy="26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D20-2656-4D19-B556-D2CAEF879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7" name=""/>
          <p:cNvGraphicFramePr/>
          <p:nvPr/>
        </p:nvGraphicFramePr>
        <p:xfrm>
          <a:off x="963720" y="585720"/>
          <a:ext cx="6389640" cy="628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585720"/>
                    <a:ext cx="6389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9" name=""/>
          <p:cNvGrpSpPr/>
          <p:nvPr/>
        </p:nvGrpSpPr>
        <p:grpSpPr>
          <a:xfrm>
            <a:off x="206280" y="92160"/>
            <a:ext cx="4619880" cy="550800"/>
            <a:chOff x="206280" y="92160"/>
            <a:chExt cx="4619880" cy="550800"/>
          </a:xfrm>
        </p:grpSpPr>
        <p:sp>
          <p:nvSpPr>
            <p:cNvPr id="1170" name=""/>
            <p:cNvSpPr/>
            <p:nvPr/>
          </p:nvSpPr>
          <p:spPr>
            <a:xfrm>
              <a:off x="206280" y="92160"/>
              <a:ext cx="46198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58640" y="95400"/>
              <a:ext cx="764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3480" y="392040"/>
              <a:ext cx="764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360360" y="921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ic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52520" y="3770280"/>
            <a:ext cx="685800" cy="62568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76760" y="4025880"/>
            <a:ext cx="754200" cy="62532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347400">
            <a:off x="4016160" y="5297400"/>
            <a:ext cx="544320" cy="4539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347400">
            <a:off x="5281200" y="3698640"/>
            <a:ext cx="461880" cy="40644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347400">
            <a:off x="4146480" y="5811840"/>
            <a:ext cx="557280" cy="5065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3E79A6-775B-49FA-B022-C996676371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How does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*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modeling help?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o systematically analyze the business mod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vestigate multi-stakeholders role in business model </a:t>
            </a:r>
            <a:r>
              <a:rPr b="0" i="1" lang="en-US" sz="2500" spc="-1" strike="noStrike">
                <a:solidFill>
                  <a:srgbClr val="ffffff"/>
                </a:solidFill>
                <a:latin typeface="Verdana"/>
              </a:rPr>
              <a:t>(e.g. Rivals, Non-Market Players, etc.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ring into account intentional dimensions, motivations and goals of participants in a business model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ake a firm’s strategy explic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emonstrate the implication of an strate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59CCFE-70D2-4E94-B667-B75FC301C54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73200" y="522000"/>
            <a:ext cx="77738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54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tering Investigation, Collaboration, and Evaluation</a:t>
            </a:r>
            <a:br>
              <a:rPr sz="2400"/>
            </a:br>
            <a:br>
              <a:rPr sz="24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tar.rwth-aachen.d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349680" y="4859280"/>
            <a:ext cx="2469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* Wiki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ma Gra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nifer Horkoff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ik Schmitz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r Abdulhad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11280" y="2986200"/>
            <a:ext cx="55944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view and a Comparis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 lis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W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istar.rwth-aachen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ischool.utoronto.ca/~yu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hy is Early RE important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efore defining the system to be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plex relationships among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.g., security, privacy, trust, profitability, market positioning, strategic alliances, intellectual proper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ow they can achieve 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eed systematic method, bring into RE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odelling and reasoning support, tools, traceabili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nsi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-business; E-learning; E-health; E-gover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ergy, environment, 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8AC-26B3-4D5B-9DF5-C1A6A07B1A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C34-ED9E-4CE9-A026-BC9915D1C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Modelling Strategic Actor Relationships and Rationales </a:t>
            </a:r>
            <a:br>
              <a:rPr sz="3200"/>
            </a:b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the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i*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modelling framewor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goals, beliefs, abilities, commi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semi-autonomo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reedom of action, constrained by relationships with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fully knowable or control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as knowledge to guide action, but only partially explic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p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oals to be achieved, tasks to be performed, resources to be fur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66680" y="3048120"/>
            <a:ext cx="457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Strategic A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Approach: model social relationships for analysis and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1040" y="2386080"/>
            <a:ext cx="8116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at do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How can I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o do I depend on to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176-7EBA-432D-8072-36E5FD3036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3387-3CAA-439A-AA9B-4C917AFFC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trategic Dependency Relationship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962520"/>
            <a:ext cx="1828800" cy="1828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2133720"/>
            <a:ext cx="1981080" cy="1295280"/>
          </a:xfrm>
          <a:prstGeom prst="cloudCallout">
            <a:avLst>
              <a:gd name="adj1" fmla="val -55287"/>
              <a:gd name="adj2" fmla="val 1111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486400" y="2209680"/>
            <a:ext cx="3200400" cy="3505320"/>
            <a:chOff x="5486400" y="2209680"/>
            <a:chExt cx="3200400" cy="3505320"/>
          </a:xfrm>
        </p:grpSpPr>
        <p:sp>
          <p:nvSpPr>
            <p:cNvPr id="510" name=""/>
            <p:cNvSpPr/>
            <p:nvPr/>
          </p:nvSpPr>
          <p:spPr>
            <a:xfrm>
              <a:off x="6858000" y="3886200"/>
              <a:ext cx="182880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c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86400" y="2209680"/>
              <a:ext cx="1981080" cy="1295640"/>
            </a:xfrm>
            <a:prstGeom prst="cloudCallout">
              <a:avLst>
                <a:gd name="adj1" fmla="val 54486"/>
                <a:gd name="adj2" fmla="val 99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I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38280" y="4191120"/>
            <a:ext cx="4419360" cy="914400"/>
            <a:chOff x="2438280" y="4191120"/>
            <a:chExt cx="4419360" cy="914400"/>
          </a:xfrm>
        </p:grpSpPr>
        <p:sp>
          <p:nvSpPr>
            <p:cNvPr id="513" name=""/>
            <p:cNvSpPr/>
            <p:nvPr/>
          </p:nvSpPr>
          <p:spPr>
            <a:xfrm>
              <a:off x="4648320" y="4191120"/>
              <a:ext cx="106668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581280" y="4191120"/>
              <a:ext cx="106704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38280" y="463536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714280" y="464832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90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20440" y="4419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r Be Repa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let’s model systems and organizations in terms of </a:t>
            </a:r>
            <a:r>
              <a:rPr b="0" lang="en-CA" sz="3200" spc="-1" strike="noStrike">
                <a:solidFill>
                  <a:srgbClr val="ff0000"/>
                </a:solidFill>
                <a:latin typeface="Tahoma"/>
              </a:rPr>
              <a:t>Strategic Dependencies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among ac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838080" y="1752480"/>
            <a:ext cx="8305920" cy="468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5F2-38D2-4D18-B018-8D1331EC90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5:41:18Z</dcterms:created>
  <dc:creator>yu</dc:creator>
  <dc:description/>
  <dc:language>en-US</dc:language>
  <cp:lastModifiedBy>ey</cp:lastModifiedBy>
  <dcterms:modified xsi:type="dcterms:W3CDTF">2008-10-27T01:00:46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6751754</vt:r8>
  </property>
  <property fmtid="{D5CDD505-2E9C-101B-9397-08002B2CF9AE}" pid="3" name="_AuthorEmail">
    <vt:lpwstr>eric@cs.toronto.edu</vt:lpwstr>
  </property>
  <property fmtid="{D5CDD505-2E9C-101B-9397-08002B2CF9AE}" pid="4" name="_AuthorEmailDisplayName">
    <vt:lpwstr>EYu</vt:lpwstr>
  </property>
  <property fmtid="{D5CDD505-2E9C-101B-9397-08002B2CF9AE}" pid="5" name="_EmailSubject">
    <vt:lpwstr>CASCON Workshop on Wednesday</vt:lpwstr>
  </property>
  <property fmtid="{D5CDD505-2E9C-101B-9397-08002B2CF9AE}" pid="6" name="_NewReviewCycle">
    <vt:lpwstr/>
  </property>
</Properties>
</file>