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44113" cy="7740650"/>
  <p:notesSz cx="7740650"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EF71BC-8E97-47EB-85EA-E56A37C397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752400" y="1812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9" name="PlaceHolder 3"/>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016D29-8458-4676-892B-665AC84307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4" name="PlaceHolder 5"/>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8737FB-F14C-4119-8744-90C50B22F6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75240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7" name="PlaceHolder 3"/>
          <p:cNvSpPr>
            <a:spLocks noGrp="1"/>
          </p:cNvSpPr>
          <p:nvPr>
            <p:ph/>
          </p:nvPr>
        </p:nvSpPr>
        <p:spPr>
          <a:xfrm>
            <a:off x="363924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4"/>
          <p:cNvSpPr>
            <a:spLocks noGrp="1"/>
          </p:cNvSpPr>
          <p:nvPr>
            <p:ph/>
          </p:nvPr>
        </p:nvSpPr>
        <p:spPr>
          <a:xfrm>
            <a:off x="652608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5"/>
          <p:cNvSpPr>
            <a:spLocks noGrp="1"/>
          </p:cNvSpPr>
          <p:nvPr>
            <p:ph/>
          </p:nvPr>
        </p:nvSpPr>
        <p:spPr>
          <a:xfrm>
            <a:off x="75240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6"/>
          <p:cNvSpPr>
            <a:spLocks noGrp="1"/>
          </p:cNvSpPr>
          <p:nvPr>
            <p:ph/>
          </p:nvPr>
        </p:nvSpPr>
        <p:spPr>
          <a:xfrm>
            <a:off x="363924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1" name="PlaceHolder 7"/>
          <p:cNvSpPr>
            <a:spLocks noGrp="1"/>
          </p:cNvSpPr>
          <p:nvPr>
            <p:ph/>
          </p:nvPr>
        </p:nvSpPr>
        <p:spPr>
          <a:xfrm>
            <a:off x="652608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DC9642-A3E2-4BA4-9B1A-32C113C669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752400" y="1812600"/>
            <a:ext cx="8537760" cy="5065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0944D-B8FF-4068-BD41-A90FB3B2AF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322209-77D7-44CF-BB2F-76FAC838A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2"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B7DC61-7E1C-4DEE-9FE9-BBA3DA77F1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6787C3-9F12-42E7-91E3-58DB63E51E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0160" y="289080"/>
            <a:ext cx="8537760" cy="59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0F73D-5820-4BFC-91A9-C0CB9077B4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DDE9EE-D1B0-4215-8E3D-36402E9364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4"/>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95B84-B3CB-4811-BF9B-260D3734AB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4"/>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15AA5F-2ECD-4012-88B1-D22C1B8B3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body"/>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ond Outline Level</a:t>
            </a:r>
            <a:endParaRPr b="1"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ird Outline Level</a:t>
            </a:r>
            <a:endParaRPr b="1"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urth Outline Level</a:t>
            </a:r>
            <a:endParaRPr b="1"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ifth Outline Level</a:t>
            </a:r>
            <a:endParaRPr b="1"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xth Outline Level</a:t>
            </a:r>
            <a:endParaRPr b="1"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venth Outline Level</a:t>
            </a:r>
            <a:endParaRPr b="1" lang="en-US" sz="3200" spc="-1" strike="noStrike">
              <a:solidFill>
                <a:srgbClr val="000000"/>
              </a:solidFill>
              <a:latin typeface="Arial Narrow"/>
            </a:endParaRPr>
          </a:p>
        </p:txBody>
      </p:sp>
      <p:sp>
        <p:nvSpPr>
          <p:cNvPr id="2" name="PlaceHolder 3"/>
          <p:cNvSpPr>
            <a:spLocks noGrp="1"/>
          </p:cNvSpPr>
          <p:nvPr>
            <p:ph type="ftr" idx="1"/>
          </p:nvPr>
        </p:nvSpPr>
        <p:spPr>
          <a:xfrm>
            <a:off x="753840" y="7165800"/>
            <a:ext cx="6553080" cy="516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3" name="PlaceHolder 4"/>
          <p:cNvSpPr>
            <a:spLocks noGrp="1"/>
          </p:cNvSpPr>
          <p:nvPr>
            <p:ph type="sldNum" idx="2"/>
          </p:nvPr>
        </p:nvSpPr>
        <p:spPr>
          <a:xfrm>
            <a:off x="7840800" y="7164000"/>
            <a:ext cx="14493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700C-02E7-41F5-9FC8-0409F19FFD1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4"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535880" y="289080"/>
            <a:ext cx="177156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5120" y="2235960"/>
            <a:ext cx="8567640" cy="8539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HelveticaNeue MediumCond"/>
              </a:rPr>
              <a:t> </a:t>
            </a:r>
            <a:endParaRPr b="0" lang="en-US" sz="5600" spc="-1" strike="noStrike">
              <a:solidFill>
                <a:srgbClr val="000000"/>
              </a:solidFill>
              <a:latin typeface="Times New Roman"/>
            </a:endParaRPr>
          </a:p>
        </p:txBody>
      </p:sp>
      <p:sp>
        <p:nvSpPr>
          <p:cNvPr id="43" name="PlaceHolder 1"/>
          <p:cNvSpPr>
            <a:spLocks noGrp="1"/>
          </p:cNvSpPr>
          <p:nvPr>
            <p:ph type="title"/>
          </p:nvPr>
        </p:nvSpPr>
        <p:spPr>
          <a:xfrm>
            <a:off x="752400" y="2403360"/>
            <a:ext cx="8537760" cy="16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Narrow"/>
              </a:rPr>
              <a:t>Requirements-Driven Business Process Modelling and Performance Management </a:t>
            </a: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1506600" y="4386240"/>
            <a:ext cx="7029360" cy="1976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ASCON Workshop</a:t>
            </a:r>
            <a:endParaRPr b="1" lang="en-US" sz="3200" spc="-1" strike="noStrike">
              <a:solidFill>
                <a:srgbClr val="000000"/>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ctober 29, 2008</a:t>
            </a:r>
            <a:endParaRPr b="1" lang="en-US" sz="3200" spc="-1" strike="noStrike">
              <a:solidFill>
                <a:srgbClr val="000000"/>
              </a:solidFill>
              <a:latin typeface="Arial Narrow"/>
            </a:endParaRPr>
          </a:p>
        </p:txBody>
      </p:sp>
      <p:sp>
        <p:nvSpPr>
          <p:cNvPr id="45"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2887560" y="365040"/>
            <a:ext cx="4105440" cy="19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
          <p:cNvSpPr/>
          <p:nvPr/>
        </p:nvSpPr>
        <p:spPr>
          <a:xfrm>
            <a:off x="0" y="17640"/>
            <a:ext cx="10042560" cy="773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297000" y="365040"/>
            <a:ext cx="6657840" cy="1228680"/>
          </a:xfrm>
          <a:prstGeom prst="rect">
            <a:avLst/>
          </a:prstGeom>
          <a:ln w="0">
            <a:noFill/>
          </a:ln>
        </p:spPr>
      </p:pic>
      <p:sp>
        <p:nvSpPr>
          <p:cNvPr id="71" name=""/>
          <p:cNvSpPr/>
          <p:nvPr/>
        </p:nvSpPr>
        <p:spPr>
          <a:xfrm>
            <a:off x="-1514880" y="1552680"/>
            <a:ext cx="10246680" cy="64260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ea typeface="MS Mincho"/>
              </a:rPr>
              <a:t>4</a:t>
            </a:r>
            <a:r>
              <a:rPr b="0" lang="en-US" sz="3600" spc="-1" strike="noStrike" baseline="30000">
                <a:solidFill>
                  <a:srgbClr val="000000"/>
                </a:solidFill>
                <a:latin typeface="Agency FB"/>
                <a:ea typeface="MS Mincho"/>
              </a:rPr>
              <a:t>th</a:t>
            </a:r>
            <a:r>
              <a:rPr b="0" lang="en-US" sz="3600" spc="-1" strike="noStrike">
                <a:solidFill>
                  <a:srgbClr val="000000"/>
                </a:solidFill>
                <a:latin typeface="Agency FB"/>
                <a:ea typeface="MS Mincho"/>
              </a:rPr>
              <a:t> Int. MCETECH</a:t>
            </a:r>
            <a:r>
              <a:rPr b="0" sz="3600" spc="-1" strike="noStrike">
                <a:solidFill>
                  <a:srgbClr val="000000"/>
                </a:solidFill>
                <a:latin typeface="Agency FB"/>
                <a:ea typeface="MS Mincho"/>
              </a:rPr>
              <a:t> Conference on eTechnologies</a:t>
            </a:r>
            <a:endParaRPr b="0" lang="en-US" sz="3600" spc="-1" strike="noStrike">
              <a:solidFill>
                <a:srgbClr val="000000"/>
              </a:solidFill>
              <a:latin typeface="Times New Roman"/>
            </a:endParaRPr>
          </a:p>
        </p:txBody>
      </p:sp>
      <p:sp>
        <p:nvSpPr>
          <p:cNvPr id="72" name=""/>
          <p:cNvSpPr/>
          <p:nvPr/>
        </p:nvSpPr>
        <p:spPr>
          <a:xfrm>
            <a:off x="1670040" y="2207520"/>
            <a:ext cx="5580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00"/>
                </a:solidFill>
                <a:latin typeface="Trebuchet MS"/>
              </a:rPr>
              <a:t>4-6</a:t>
            </a:r>
            <a:r>
              <a:rPr b="1" lang="en-US" sz="2800" spc="-1" strike="noStrike">
                <a:solidFill>
                  <a:srgbClr val="000000"/>
                </a:solidFill>
                <a:latin typeface="Trebuchet MS"/>
              </a:rPr>
              <a:t> </a:t>
            </a:r>
            <a:r>
              <a:rPr b="1" lang="en-US" sz="2800" spc="-1" strike="noStrike">
                <a:solidFill>
                  <a:srgbClr val="666600"/>
                </a:solidFill>
                <a:latin typeface="Trebuchet MS"/>
              </a:rPr>
              <a:t>May 2009, Ottawa, Canada </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7162920" y="106200"/>
            <a:ext cx="2963880" cy="2544840"/>
          </a:xfrm>
          <a:prstGeom prst="rect">
            <a:avLst/>
          </a:prstGeom>
          <a:ln w="0">
            <a:noFill/>
          </a:ln>
        </p:spPr>
      </p:pic>
      <p:sp>
        <p:nvSpPr>
          <p:cNvPr id="74" name=""/>
          <p:cNvSpPr/>
          <p:nvPr/>
        </p:nvSpPr>
        <p:spPr>
          <a:xfrm>
            <a:off x="144360" y="3032280"/>
            <a:ext cx="4800600" cy="4167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rebuchet MS"/>
              </a:rPr>
              <a:t>Topic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Inter-organizational process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rvice-Oriented Architecture</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curity and trust </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Middleware and infrastructure servic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Appl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Open source and open environmen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553040" y="6460200"/>
            <a:ext cx="7008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646604"/>
                </a:solidFill>
                <a:latin typeface="Trebuchet MS"/>
                <a:ea typeface="Times New Roman"/>
              </a:rPr>
              <a:t>http://mcetech.org/</a:t>
            </a:r>
            <a:endParaRPr b="0" lang="en-US" sz="5400" spc="-1" strike="noStrike">
              <a:solidFill>
                <a:srgbClr val="000000"/>
              </a:solidFill>
              <a:latin typeface="Times New Roman"/>
            </a:endParaRPr>
          </a:p>
        </p:txBody>
      </p:sp>
      <p:sp>
        <p:nvSpPr>
          <p:cNvPr id="76" name=""/>
          <p:cNvSpPr/>
          <p:nvPr/>
        </p:nvSpPr>
        <p:spPr>
          <a:xfrm>
            <a:off x="5006520" y="3032280"/>
            <a:ext cx="5189040" cy="265428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ortant Dat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c. 19:</a:t>
            </a:r>
            <a:r>
              <a:rPr b="0" lang="en-US" sz="2400" spc="-1" strike="noStrike">
                <a:solidFill>
                  <a:srgbClr val="000000"/>
                </a:solidFill>
                <a:latin typeface="Trebuchet MS"/>
              </a:rPr>
              <a:t>	</a:t>
            </a:r>
            <a:r>
              <a:rPr b="0" lang="en-US" sz="2400" spc="-1" strike="noStrike">
                <a:solidFill>
                  <a:srgbClr val="000000"/>
                </a:solidFill>
                <a:latin typeface="Trebuchet MS"/>
              </a:rPr>
              <a:t>Abstrac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9: </a:t>
            </a:r>
            <a:r>
              <a:rPr b="0" lang="en-US" sz="2400" spc="-1" strike="noStrike">
                <a:solidFill>
                  <a:srgbClr val="000000"/>
                </a:solidFill>
                <a:latin typeface="Trebuchet MS"/>
              </a:rPr>
              <a:t>	</a:t>
            </a:r>
            <a:r>
              <a:rPr b="0" lang="en-US" sz="2400" spc="-1" strike="noStrike">
                <a:solidFill>
                  <a:srgbClr val="000000"/>
                </a:solidFill>
                <a:latin typeface="Trebuchet MS"/>
              </a:rPr>
              <a:t>Full paper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30: </a:t>
            </a:r>
            <a:r>
              <a:rPr b="0" lang="en-US" sz="2400" spc="-1" strike="noStrike">
                <a:solidFill>
                  <a:srgbClr val="000000"/>
                </a:solidFill>
                <a:latin typeface="Trebuchet MS"/>
              </a:rPr>
              <a:t>	</a:t>
            </a:r>
            <a:r>
              <a:rPr b="0" lang="en-US" sz="2400" spc="-1" strike="noStrike">
                <a:solidFill>
                  <a:srgbClr val="000000"/>
                </a:solidFill>
                <a:latin typeface="Trebuchet MS"/>
              </a:rPr>
              <a:t>Tutorials/Workshop</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eb. 13: </a:t>
            </a:r>
            <a:r>
              <a:rPr b="0" lang="en-US" sz="2400" spc="-1" strike="noStrike">
                <a:solidFill>
                  <a:srgbClr val="000000"/>
                </a:solidFill>
                <a:latin typeface="Trebuchet MS"/>
              </a:rPr>
              <a:t>	</a:t>
            </a:r>
            <a:r>
              <a:rPr b="0" lang="en-US" sz="2400" spc="-1" strike="noStrike">
                <a:solidFill>
                  <a:srgbClr val="000000"/>
                </a:solidFill>
                <a:latin typeface="Trebuchet MS"/>
              </a:rPr>
              <a:t>Notif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r. 13:</a:t>
            </a:r>
            <a:r>
              <a:rPr b="0" lang="en-US" sz="2400" spc="-1" strike="noStrike">
                <a:solidFill>
                  <a:srgbClr val="000000"/>
                </a:solidFill>
                <a:latin typeface="Trebuchet MS"/>
              </a:rPr>
              <a:t>	</a:t>
            </a:r>
            <a:r>
              <a:rPr b="0" lang="en-US" sz="2400" spc="-1" strike="noStrike">
                <a:solidFill>
                  <a:srgbClr val="000000"/>
                </a:solidFill>
                <a:latin typeface="Trebuchet MS"/>
              </a:rPr>
              <a:t>Camera-ready</a:t>
            </a:r>
            <a:br>
              <a:rPr sz="2400"/>
            </a:br>
            <a:r>
              <a:rPr b="1" lang="en-US" sz="2400" spc="-1" strike="noStrike">
                <a:solidFill>
                  <a:srgbClr val="000000"/>
                </a:solidFill>
                <a:latin typeface="Trebuchet MS"/>
              </a:rPr>
              <a:t>May 4-6:</a:t>
            </a:r>
            <a:r>
              <a:rPr b="1" lang="en-US" sz="2400" spc="-1" strike="noStrike">
                <a:solidFill>
                  <a:srgbClr val="000000"/>
                </a:solidFill>
                <a:latin typeface="Trebuchet MS"/>
              </a:rPr>
              <a:t>	</a:t>
            </a:r>
            <a:r>
              <a:rPr b="1" lang="en-US" sz="2400" spc="-1" strike="noStrike">
                <a:solidFill>
                  <a:srgbClr val="000000"/>
                </a:solidFill>
                <a:latin typeface="Trebuchet MS"/>
              </a:rPr>
              <a:t>Conferen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Requirements-Driven BPM and Performance Management, October 29, 2008</a:t>
            </a:r>
          </a:p>
        </p:txBody>
      </p:sp>
      <p:sp>
        <p:nvSpPr>
          <p:cNvPr id="4" name="PlaceHolder 3"/>
          <p:cNvSpPr>
            <a:spLocks noGrp="1"/>
          </p:cNvSpPr>
          <p:nvPr>
            <p:ph type="sldNum" idx="2"/>
          </p:nvPr>
        </p:nvSpPr>
        <p:spPr/>
        <p:txBody>
          <a:bodyPr/>
          <a:p>
            <a:fld id="{AFF2BE9B-810D-4C43-821A-DA8E7F910EC0}"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iness Processes</a:t>
            </a:r>
            <a:endParaRPr b="1" lang="en-US" sz="3600" spc="-1" strike="noStrike">
              <a:solidFill>
                <a:srgbClr val="000000"/>
              </a:solidFill>
              <a:latin typeface="Arial Narrow"/>
            </a:endParaRPr>
          </a:p>
        </p:txBody>
      </p:sp>
      <p:sp>
        <p:nvSpPr>
          <p:cNvPr id="48"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ordinated chain of activities intended to produce a business result or reach a business goal</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otential for improvements in organizations through the utilization of Business Process Management (BPM) methodologies and tools</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ill, inadequacies remain. Among others:</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ignment between business goals and business processes</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iance with legislation</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0583402C-338D-4F24-9373-B59A243E14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orkshop Goals</a:t>
            </a:r>
            <a:endParaRPr b="1" lang="en-US" sz="3600" spc="-1" strike="noStrike">
              <a:solidFill>
                <a:srgbClr val="000000"/>
              </a:solidFill>
              <a:latin typeface="Arial Narrow"/>
            </a:endParaRPr>
          </a:p>
        </p:txBody>
      </p:sp>
      <p:sp>
        <p:nvSpPr>
          <p:cNvPr id="50"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se many elements of an integrated BPM framework</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es advantage of languages, methodologies and tools recently developed in the requirements engineering community.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siness process monitoring, performance management, and compliance capabilities integrated across the BPM lifecycle.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s different technologies and tools originating from IBM (Eclipse, Cognos 8 BI, Telelogic DOORS RMS) and open source (jUCMNav and OpenOME]). </a:t>
            </a:r>
            <a:endParaRPr b="0" lang="en-US" sz="24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ipants are expected to help identify the opportunities and limitations of such notations, methodologies, and tools for business process modelling and performance management in organizations. </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7460799D-E970-4E3E-9295-6ECC1D736E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2"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3"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niel Amyot,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niel Amyot is Associate Professor at the University of Ottawa, which he joined in 2002 after working for Mitel Networks as a senior researcher in software engineering. His research interests include scenario-based software engineering, requirements engineering, business process modeling, aspect-oriented modeling, and feature interactions in emerging applications. Daniel is Rapporteur for requirements languages at the International Telecommunication Union, where he leads the development of the User Requirements Notation. He has a Ph.D. and a M.Sc. from the University of Ottawa (2001 and 1994), as well as a B.Sc. from Laval University (1992).</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3180191A-04C7-4EEA-A335-8FA3D3A8FC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5"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6"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ireza Pourshahid, Cognos / IBM</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Alireza Pourshahid received his M.Sc. degree in E-Business Technologies from the University of Ottawa in 2008 and is now working at IBM. Ali also recently started his Ph.D. in Computer Science at the University of Ottawa. His main research interests are Business Process and Performance Management, Process Modeling, Trust Modeling, and Software Development Methodologies. </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5723AE09-FE92-4CC0-B750-70CCFB948D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8"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9"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Eric Yu, Faculty of Information, UofT</a:t>
            </a:r>
            <a:endParaRPr b="1" lang="en-US" sz="2000" spc="-1" strike="noStrike">
              <a:solidFill>
                <a:srgbClr val="000000"/>
              </a:solidFill>
              <a:latin typeface="Arial Narrow"/>
            </a:endParaRPr>
          </a:p>
          <a:p>
            <a:pPr marL="343080" indent="-343080">
              <a:lnSpc>
                <a:spcPct val="80000"/>
              </a:lnSpc>
              <a:spcBef>
                <a:spcPts val="4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Narrow"/>
              </a:rPr>
              <a:t>Eric Yu is Associate Professor at the Faculty of Information, UofT. He received his Ph.D. in C.S. from UofT in 1995. His interests are in the areas of information systems design, requirements eng., knowledge management, enterprise architecture, software eng., and business modeling. His research emphasizes concepts and techniques for modelling and systematically analyzing strategic relationships among social actors. He serves on the editorial boards of the Int. Journal of Agent Oriented Software Engineering, IET Software and the Journal of Data Semantics. He is Program Co-chair for the 27th Int. Conf. on Conceptual Modeling (ER’08). Earlier, he held positions in research and development labs at Bell and Nortel Networks in Ottawa.</a:t>
            </a:r>
            <a:endParaRPr b="1" lang="en-US" sz="19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DF66C2A6-34C5-4F19-ACE6-6F03AD70C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1"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2"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am Peyton,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Liam Peyton, Ph.D., P.Eng., is the principal investigator for the Intelligent Data Warehouse laboratory and Associate Professor at the University of Ottawa which he joined in 2002 after spending 10 years as an industry consultant specializing in business process automation, performance management, and software development methodologies. His current research focus is the securing, monitoring and enabling of data sharing within business to business networks based on model-driven, service oriented architecture in compliance with government regulations. He has degrees from Aalborg Universitet (Ph.D. 1996), Stanford University (M.Sc. 1989), and McGill University (B.Sc. 1984).</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5E7F0461-BE5B-4FBB-B6D5-B89D897EE7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4"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5"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exei Lapouchnian, Dept. C.S., UofT</a:t>
            </a:r>
            <a:endParaRPr b="1" lang="en-US" sz="2000" spc="-1" strike="noStrike">
              <a:solidFill>
                <a:srgbClr val="000000"/>
              </a:solidFill>
              <a:latin typeface="Arial Narrow"/>
            </a:endParaRPr>
          </a:p>
          <a:p>
            <a:pPr marL="343080" indent="-343080">
              <a:lnSpc>
                <a:spcPct val="80000"/>
              </a:lnSpc>
              <a:spcBef>
                <a:spcPts val="4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ei Lapouchnian is a Ph.D. student in the Dept. of Computer Science at UofT, under the supervision of Professor John Mylopoulos. His research interests include software engineering for highly customizable, adaptable and adaptive systems, autonomic computing, business process modeling, as well as multiagent systems and in requirements engineering. Most of his research is on using intentional (goal) and social (i*) models for modeling, analysis, and design of systems. He holds an IBM CAS fellowship to study adaptive business processes. Previously, he completed his M.Sc. in the Dept. of C.S. at York University. He worked on requirements engineering for multiagent systems, particularly on integrating the i* modeling framework with the Cognitive Agents Specification Language for requirements engineering under the supervision of Prof. Yves Lespérance.</a:t>
            </a:r>
            <a:endParaRPr b="1" lang="en-US" sz="18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509A10E8-1EFD-41A8-BC8C-7F5C91749D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cussion and Conclusions…</a:t>
            </a:r>
            <a:endParaRPr b="1" lang="en-US" sz="3600" spc="-1" strike="noStrike">
              <a:solidFill>
                <a:srgbClr val="000000"/>
              </a:solidFill>
              <a:latin typeface="Arial Narrow"/>
            </a:endParaRPr>
          </a:p>
        </p:txBody>
      </p:sp>
      <p:sp>
        <p:nvSpPr>
          <p:cNvPr id="67"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pportunitie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mitation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ay forward?</a:t>
            </a:r>
            <a:endParaRPr b="1"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B51D7256-B212-44E8-9633-CFAAF8D7F4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 Amyot</cp:lastModifiedBy>
  <dcterms:modified xsi:type="dcterms:W3CDTF">2008-10-29T15:57:49Z</dcterms:modified>
  <cp:revision>155</cp:revision>
  <dc:subject/>
  <dc:title>Slide 1</dc:title>
</cp:coreProperties>
</file>